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03D-69DC-4C8E-939B-E0291CDD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B2A-2101-4B16-816F-D8073441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956-C568-4357-8542-CF0B29AC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9AE-5129-4C68-895B-2CB9CD43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60C24-2AD4-49CC-BBFF-4F970AFF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EA265-6832-45D5-86C3-512ACA91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62FF0-2B77-42C9-A84F-7FB1668F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CCA97-7120-4A5C-897D-7995D786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2339E-667B-48E0-80CC-56A6103E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54BD1-5174-4A53-8143-6B53EA2B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8AF47-743E-46A6-8DFD-BAB65FED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6CF-D058-4436-853E-6C111AF6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C6967-CF05-472B-9CCF-5F90A0D4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BC337-0467-4930-937B-093AB593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B2582-7DE6-4ED0-8658-A48195E4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D87D5-5FF5-4816-B29A-4CD19234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E3903-E8C2-4C3E-B190-943C9FC7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CF4-64BA-4501-90E5-884756CC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A07-B5A3-4010-BD7A-A0675C52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A16-C0FB-4B0C-AFA6-1BF7EC3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793-D7B2-436B-AB0C-46BDFEBB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C75-57DE-467C-93F8-F7F2ACD3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853-CD93-4E54-BA61-121AE6F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9AA-EB0B-42A0-8F4B-4B279F2A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5BD3-DD68-4486-93F5-E93F21539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3622-5680-4F79-B14B-F27B594AC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A Review Day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Unit 8: Statistics and Probability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Students will set intervals for frequency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46160" y="4500720"/>
            <a:ext cx="1428840" cy="36360"/>
          </a:xfrm>
          <a:custGeom>
            <a:avLst/>
            <a:gdLst/>
            <a:ahLst/>
            <a:rect l="l" t="t" r="r" b="b"/>
            <a:pathLst>
              <a:path w="3970" h="100">
                <a:moveTo>
                  <a:pt x="5407" y="12576"/>
                </a:moveTo>
                <a:cubicBezTo>
                  <a:pt x="5467" y="12581"/>
                  <a:pt x="5499" y="12596"/>
                  <a:pt x="5556" y="12601"/>
                </a:cubicBezTo>
                <a:cubicBezTo>
                  <a:pt x="5631" y="12608"/>
                  <a:pt x="5696" y="12583"/>
                  <a:pt x="5755" y="12576"/>
                </a:cubicBezTo>
                <a:cubicBezTo>
                  <a:pt x="5807" y="12570"/>
                  <a:pt x="5887" y="12555"/>
                  <a:pt x="5928" y="12551"/>
                </a:cubicBezTo>
                <a:cubicBezTo>
                  <a:pt x="5977" y="12546"/>
                  <a:pt x="6041" y="12530"/>
                  <a:pt x="6077" y="12526"/>
                </a:cubicBezTo>
                <a:cubicBezTo>
                  <a:pt x="6132" y="12520"/>
                  <a:pt x="6156" y="12543"/>
                  <a:pt x="6201" y="12551"/>
                </a:cubicBezTo>
                <a:cubicBezTo>
                  <a:pt x="6259" y="12561"/>
                  <a:pt x="6316" y="12571"/>
                  <a:pt x="6375" y="12576"/>
                </a:cubicBezTo>
                <a:cubicBezTo>
                  <a:pt x="6452" y="12582"/>
                  <a:pt x="6581" y="12605"/>
                  <a:pt x="6648" y="12601"/>
                </a:cubicBezTo>
                <a:cubicBezTo>
                  <a:pt x="6725" y="12597"/>
                  <a:pt x="6810" y="12576"/>
                  <a:pt x="6896" y="12576"/>
                </a:cubicBezTo>
                <a:cubicBezTo>
                  <a:pt x="7015" y="12576"/>
                  <a:pt x="7125" y="12555"/>
                  <a:pt x="7243" y="12551"/>
                </a:cubicBezTo>
                <a:cubicBezTo>
                  <a:pt x="7312" y="12549"/>
                  <a:pt x="7356" y="12570"/>
                  <a:pt x="7417" y="12576"/>
                </a:cubicBezTo>
                <a:cubicBezTo>
                  <a:pt x="7493" y="12583"/>
                  <a:pt x="7565" y="12596"/>
                  <a:pt x="7640" y="12601"/>
                </a:cubicBezTo>
                <a:cubicBezTo>
                  <a:pt x="7792" y="12611"/>
                  <a:pt x="7966" y="12613"/>
                  <a:pt x="8111" y="12576"/>
                </a:cubicBezTo>
                <a:cubicBezTo>
                  <a:pt x="8245" y="12542"/>
                  <a:pt x="8370" y="12506"/>
                  <a:pt x="8508" y="12502"/>
                </a:cubicBezTo>
                <a:cubicBezTo>
                  <a:pt x="8660" y="12498"/>
                  <a:pt x="8805" y="12514"/>
                  <a:pt x="8954" y="12526"/>
                </a:cubicBezTo>
                <a:cubicBezTo>
                  <a:pt x="9090" y="12537"/>
                  <a:pt x="9232" y="12521"/>
                  <a:pt x="9351" y="12502"/>
                </a:cubicBezTo>
                <a:cubicBezTo>
                  <a:pt x="9359" y="12502"/>
                  <a:pt x="9368" y="12502"/>
                  <a:pt x="9376" y="125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f"/>
                </a:solidFill>
                <a:latin typeface="Arial"/>
              </a:rPr>
              <a:t>Objective: Students will set intervals for frequency tables.</a:t>
            </a:r>
            <a:endParaRPr b="0" lang="en-US" sz="2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800600" y="2209680"/>
          <a:ext cx="3809880" cy="28767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52388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 l l  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–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6019920" y="3124080"/>
            <a:ext cx="4572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89160" y="2598840"/>
            <a:ext cx="2849760" cy="973080"/>
          </a:xfrm>
          <a:custGeom>
            <a:avLst/>
            <a:gdLst/>
            <a:ahLst/>
            <a:rect l="l" t="t" r="r" b="b"/>
            <a:pathLst>
              <a:path w="7914" h="2705">
                <a:moveTo>
                  <a:pt x="13643" y="8285"/>
                </a:moveTo>
                <a:cubicBezTo>
                  <a:pt x="13652" y="8282"/>
                  <a:pt x="13681" y="8266"/>
                  <a:pt x="13717" y="8260"/>
                </a:cubicBezTo>
                <a:cubicBezTo>
                  <a:pt x="13811" y="8243"/>
                  <a:pt x="13894" y="8235"/>
                  <a:pt x="13990" y="8235"/>
                </a:cubicBezTo>
                <a:cubicBezTo>
                  <a:pt x="14168" y="8235"/>
                  <a:pt x="14338" y="8229"/>
                  <a:pt x="14511" y="8210"/>
                </a:cubicBezTo>
                <a:cubicBezTo>
                  <a:pt x="14779" y="8181"/>
                  <a:pt x="15062" y="8205"/>
                  <a:pt x="15329" y="8186"/>
                </a:cubicBezTo>
                <a:cubicBezTo>
                  <a:pt x="15486" y="8175"/>
                  <a:pt x="15645" y="8171"/>
                  <a:pt x="15801" y="8161"/>
                </a:cubicBezTo>
                <a:cubicBezTo>
                  <a:pt x="15919" y="8153"/>
                  <a:pt x="16034" y="8137"/>
                  <a:pt x="16148" y="8111"/>
                </a:cubicBezTo>
                <a:cubicBezTo>
                  <a:pt x="16229" y="8093"/>
                  <a:pt x="16297" y="8076"/>
                  <a:pt x="16371" y="8037"/>
                </a:cubicBezTo>
                <a:cubicBezTo>
                  <a:pt x="16462" y="7989"/>
                  <a:pt x="16451" y="7984"/>
                  <a:pt x="16470" y="7888"/>
                </a:cubicBezTo>
                <a:cubicBezTo>
                  <a:pt x="16492" y="7777"/>
                  <a:pt x="16480" y="7751"/>
                  <a:pt x="16446" y="7640"/>
                </a:cubicBezTo>
                <a:cubicBezTo>
                  <a:pt x="16413" y="7533"/>
                  <a:pt x="16347" y="7514"/>
                  <a:pt x="16272" y="7441"/>
                </a:cubicBezTo>
                <a:cubicBezTo>
                  <a:pt x="16194" y="7365"/>
                  <a:pt x="16135" y="7310"/>
                  <a:pt x="16024" y="7268"/>
                </a:cubicBezTo>
                <a:cubicBezTo>
                  <a:pt x="15867" y="7209"/>
                  <a:pt x="15644" y="7221"/>
                  <a:pt x="15478" y="7218"/>
                </a:cubicBezTo>
                <a:cubicBezTo>
                  <a:pt x="15268" y="7214"/>
                  <a:pt x="15064" y="7231"/>
                  <a:pt x="14858" y="7243"/>
                </a:cubicBezTo>
                <a:cubicBezTo>
                  <a:pt x="14638" y="7256"/>
                  <a:pt x="14431" y="7303"/>
                  <a:pt x="14213" y="7342"/>
                </a:cubicBezTo>
                <a:cubicBezTo>
                  <a:pt x="14037" y="7373"/>
                  <a:pt x="13920" y="7433"/>
                  <a:pt x="13767" y="7516"/>
                </a:cubicBezTo>
                <a:cubicBezTo>
                  <a:pt x="13617" y="7597"/>
                  <a:pt x="13583" y="7655"/>
                  <a:pt x="13469" y="7764"/>
                </a:cubicBezTo>
                <a:cubicBezTo>
                  <a:pt x="13389" y="7841"/>
                  <a:pt x="13324" y="7895"/>
                  <a:pt x="13295" y="8012"/>
                </a:cubicBezTo>
                <a:cubicBezTo>
                  <a:pt x="13281" y="8069"/>
                  <a:pt x="13298" y="8136"/>
                  <a:pt x="13320" y="8186"/>
                </a:cubicBezTo>
                <a:cubicBezTo>
                  <a:pt x="13350" y="8256"/>
                  <a:pt x="13417" y="8358"/>
                  <a:pt x="13494" y="8384"/>
                </a:cubicBezTo>
                <a:cubicBezTo>
                  <a:pt x="13621" y="8428"/>
                  <a:pt x="13712" y="8388"/>
                  <a:pt x="13841" y="8359"/>
                </a:cubicBezTo>
                <a:cubicBezTo>
                  <a:pt x="13909" y="8344"/>
                  <a:pt x="14056" y="8318"/>
                  <a:pt x="14114" y="8285"/>
                </a:cubicBezTo>
                <a:cubicBezTo>
                  <a:pt x="14114" y="8277"/>
                  <a:pt x="14114" y="8268"/>
                  <a:pt x="14114" y="8260"/>
                </a:cubicBezTo>
              </a:path>
              <a:path w="7914" h="2705">
                <a:moveTo>
                  <a:pt x="14114" y="9525"/>
                </a:moveTo>
                <a:cubicBezTo>
                  <a:pt x="14072" y="9548"/>
                  <a:pt x="14021" y="9589"/>
                  <a:pt x="13940" y="9599"/>
                </a:cubicBezTo>
                <a:cubicBezTo>
                  <a:pt x="13787" y="9617"/>
                  <a:pt x="13626" y="9588"/>
                  <a:pt x="13469" y="9550"/>
                </a:cubicBezTo>
                <a:cubicBezTo>
                  <a:pt x="13211" y="9487"/>
                  <a:pt x="12953" y="9385"/>
                  <a:pt x="12700" y="9302"/>
                </a:cubicBezTo>
                <a:cubicBezTo>
                  <a:pt x="12187" y="9134"/>
                  <a:pt x="11743" y="8893"/>
                  <a:pt x="11286" y="8607"/>
                </a:cubicBezTo>
                <a:cubicBezTo>
                  <a:pt x="10869" y="8346"/>
                  <a:pt x="10446" y="8082"/>
                  <a:pt x="10021" y="7838"/>
                </a:cubicBezTo>
                <a:cubicBezTo>
                  <a:pt x="9776" y="7697"/>
                  <a:pt x="9557" y="7483"/>
                  <a:pt x="9302" y="7367"/>
                </a:cubicBezTo>
                <a:cubicBezTo>
                  <a:pt x="9195" y="7318"/>
                  <a:pt x="9064" y="7293"/>
                  <a:pt x="8954" y="7268"/>
                </a:cubicBezTo>
                <a:cubicBezTo>
                  <a:pt x="8851" y="7245"/>
                  <a:pt x="8736" y="7229"/>
                  <a:pt x="8632" y="7218"/>
                </a:cubicBezTo>
                <a:cubicBezTo>
                  <a:pt x="8607" y="7218"/>
                  <a:pt x="8599" y="7218"/>
                  <a:pt x="8582" y="7218"/>
                </a:cubicBezTo>
              </a:path>
              <a:path w="7914" h="2705">
                <a:moveTo>
                  <a:pt x="13791" y="9401"/>
                </a:moveTo>
                <a:cubicBezTo>
                  <a:pt x="13866" y="9526"/>
                  <a:pt x="13916" y="9595"/>
                  <a:pt x="14064" y="9624"/>
                </a:cubicBezTo>
                <a:cubicBezTo>
                  <a:pt x="14081" y="9624"/>
                  <a:pt x="14097" y="9624"/>
                  <a:pt x="14114" y="9624"/>
                </a:cubicBezTo>
                <a:cubicBezTo>
                  <a:pt x="14056" y="9721"/>
                  <a:pt x="13932" y="9823"/>
                  <a:pt x="13891" y="9922"/>
                </a:cubicBezTo>
                <a:cubicBezTo>
                  <a:pt x="13899" y="9922"/>
                  <a:pt x="13907" y="9922"/>
                  <a:pt x="13915" y="99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4040" y="3178080"/>
            <a:ext cx="2500200" cy="1233720"/>
          </a:xfrm>
          <a:custGeom>
            <a:avLst/>
            <a:gdLst/>
            <a:ahLst/>
            <a:rect l="l" t="t" r="r" b="b"/>
            <a:pathLst>
              <a:path w="6946" h="3425">
                <a:moveTo>
                  <a:pt x="8037" y="10914"/>
                </a:moveTo>
                <a:cubicBezTo>
                  <a:pt x="8272" y="10941"/>
                  <a:pt x="8396" y="10928"/>
                  <a:pt x="8632" y="10864"/>
                </a:cubicBezTo>
                <a:cubicBezTo>
                  <a:pt x="8910" y="10788"/>
                  <a:pt x="9139" y="10634"/>
                  <a:pt x="9401" y="10517"/>
                </a:cubicBezTo>
                <a:cubicBezTo>
                  <a:pt x="9613" y="10422"/>
                  <a:pt x="9845" y="10302"/>
                  <a:pt x="10071" y="10244"/>
                </a:cubicBezTo>
                <a:cubicBezTo>
                  <a:pt x="10232" y="10203"/>
                  <a:pt x="10390" y="10147"/>
                  <a:pt x="10542" y="10071"/>
                </a:cubicBezTo>
                <a:cubicBezTo>
                  <a:pt x="10666" y="10009"/>
                  <a:pt x="10771" y="9918"/>
                  <a:pt x="10889" y="9847"/>
                </a:cubicBezTo>
                <a:cubicBezTo>
                  <a:pt x="11008" y="9776"/>
                  <a:pt x="11111" y="9697"/>
                  <a:pt x="11212" y="9599"/>
                </a:cubicBezTo>
                <a:cubicBezTo>
                  <a:pt x="11293" y="9520"/>
                  <a:pt x="11373" y="9398"/>
                  <a:pt x="11460" y="9327"/>
                </a:cubicBezTo>
                <a:cubicBezTo>
                  <a:pt x="11552" y="9251"/>
                  <a:pt x="11714" y="9161"/>
                  <a:pt x="11832" y="9128"/>
                </a:cubicBezTo>
                <a:cubicBezTo>
                  <a:pt x="11936" y="9099"/>
                  <a:pt x="12047" y="9085"/>
                  <a:pt x="12154" y="9079"/>
                </a:cubicBezTo>
                <a:cubicBezTo>
                  <a:pt x="12412" y="9064"/>
                  <a:pt x="12645" y="9041"/>
                  <a:pt x="12898" y="9004"/>
                </a:cubicBezTo>
                <a:cubicBezTo>
                  <a:pt x="12923" y="9004"/>
                  <a:pt x="12931" y="9004"/>
                  <a:pt x="12948" y="9004"/>
                </a:cubicBezTo>
                <a:cubicBezTo>
                  <a:pt x="12846" y="8965"/>
                  <a:pt x="12745" y="8946"/>
                  <a:pt x="12650" y="8880"/>
                </a:cubicBezTo>
                <a:cubicBezTo>
                  <a:pt x="12628" y="8857"/>
                  <a:pt x="12620" y="8852"/>
                  <a:pt x="12626" y="8830"/>
                </a:cubicBezTo>
                <a:cubicBezTo>
                  <a:pt x="12701" y="8900"/>
                  <a:pt x="12766" y="8972"/>
                  <a:pt x="12849" y="9029"/>
                </a:cubicBezTo>
                <a:cubicBezTo>
                  <a:pt x="12857" y="9029"/>
                  <a:pt x="12866" y="9029"/>
                  <a:pt x="12874" y="9029"/>
                </a:cubicBezTo>
                <a:cubicBezTo>
                  <a:pt x="12811" y="9155"/>
                  <a:pt x="12747" y="9274"/>
                  <a:pt x="12626" y="9376"/>
                </a:cubicBezTo>
                <a:cubicBezTo>
                  <a:pt x="12609" y="9384"/>
                  <a:pt x="12593" y="9393"/>
                  <a:pt x="12576" y="9401"/>
                </a:cubicBezTo>
              </a:path>
              <a:path w="6946" h="3425">
                <a:moveTo>
                  <a:pt x="14238" y="9475"/>
                </a:moveTo>
                <a:cubicBezTo>
                  <a:pt x="14243" y="9455"/>
                  <a:pt x="14263" y="9371"/>
                  <a:pt x="14263" y="9426"/>
                </a:cubicBezTo>
                <a:cubicBezTo>
                  <a:pt x="14263" y="9500"/>
                  <a:pt x="14263" y="9509"/>
                  <a:pt x="14263" y="9550"/>
                </a:cubicBezTo>
                <a:cubicBezTo>
                  <a:pt x="14344" y="9550"/>
                  <a:pt x="14418" y="9556"/>
                  <a:pt x="14486" y="9575"/>
                </a:cubicBezTo>
                <a:cubicBezTo>
                  <a:pt x="14535" y="9588"/>
                  <a:pt x="14487" y="9607"/>
                  <a:pt x="14536" y="9575"/>
                </a:cubicBezTo>
              </a:path>
              <a:path w="6946" h="3425">
                <a:moveTo>
                  <a:pt x="14511" y="9327"/>
                </a:moveTo>
                <a:cubicBezTo>
                  <a:pt x="14517" y="9444"/>
                  <a:pt x="14536" y="9557"/>
                  <a:pt x="14536" y="9674"/>
                </a:cubicBezTo>
              </a:path>
              <a:path w="6946" h="3425">
                <a:moveTo>
                  <a:pt x="13965" y="9674"/>
                </a:moveTo>
                <a:cubicBezTo>
                  <a:pt x="14108" y="9796"/>
                  <a:pt x="14261" y="9897"/>
                  <a:pt x="14461" y="9897"/>
                </a:cubicBezTo>
                <a:cubicBezTo>
                  <a:pt x="14599" y="9897"/>
                  <a:pt x="14793" y="9835"/>
                  <a:pt x="14883" y="9723"/>
                </a:cubicBezTo>
                <a:cubicBezTo>
                  <a:pt x="14982" y="9599"/>
                  <a:pt x="14932" y="9431"/>
                  <a:pt x="14833" y="9327"/>
                </a:cubicBezTo>
                <a:cubicBezTo>
                  <a:pt x="14765" y="9256"/>
                  <a:pt x="14610" y="9190"/>
                  <a:pt x="14511" y="9178"/>
                </a:cubicBezTo>
                <a:cubicBezTo>
                  <a:pt x="14397" y="9164"/>
                  <a:pt x="14271" y="9206"/>
                  <a:pt x="14188" y="9277"/>
                </a:cubicBezTo>
                <a:cubicBezTo>
                  <a:pt x="14095" y="9357"/>
                  <a:pt x="14065" y="9480"/>
                  <a:pt x="14089" y="9599"/>
                </a:cubicBezTo>
                <a:cubicBezTo>
                  <a:pt x="14105" y="9679"/>
                  <a:pt x="14184" y="9755"/>
                  <a:pt x="14263" y="9773"/>
                </a:cubicBezTo>
                <a:cubicBezTo>
                  <a:pt x="14288" y="9773"/>
                  <a:pt x="14296" y="9773"/>
                  <a:pt x="14312" y="9773"/>
                </a:cubicBezTo>
              </a:path>
              <a:path w="6946" h="3425">
                <a:moveTo>
                  <a:pt x="14486" y="10641"/>
                </a:moveTo>
                <a:cubicBezTo>
                  <a:pt x="14443" y="10673"/>
                  <a:pt x="14414" y="10707"/>
                  <a:pt x="14436" y="10716"/>
                </a:cubicBezTo>
                <a:cubicBezTo>
                  <a:pt x="14491" y="10738"/>
                  <a:pt x="14527" y="10740"/>
                  <a:pt x="14585" y="10740"/>
                </a:cubicBezTo>
              </a:path>
              <a:path w="6946" h="3425">
                <a:moveTo>
                  <a:pt x="14635" y="10542"/>
                </a:moveTo>
                <a:cubicBezTo>
                  <a:pt x="14610" y="10642"/>
                  <a:pt x="14595" y="10746"/>
                  <a:pt x="14560" y="10840"/>
                </a:cubicBezTo>
              </a:path>
              <a:path w="6946" h="3425">
                <a:moveTo>
                  <a:pt x="14114" y="10939"/>
                </a:moveTo>
                <a:cubicBezTo>
                  <a:pt x="14280" y="10988"/>
                  <a:pt x="14409" y="11045"/>
                  <a:pt x="14585" y="10988"/>
                </a:cubicBezTo>
                <a:cubicBezTo>
                  <a:pt x="14678" y="10958"/>
                  <a:pt x="14831" y="10864"/>
                  <a:pt x="14808" y="10740"/>
                </a:cubicBezTo>
                <a:cubicBezTo>
                  <a:pt x="14782" y="10603"/>
                  <a:pt x="14583" y="10510"/>
                  <a:pt x="14461" y="10492"/>
                </a:cubicBezTo>
                <a:cubicBezTo>
                  <a:pt x="14329" y="10473"/>
                  <a:pt x="14126" y="10562"/>
                  <a:pt x="14039" y="10666"/>
                </a:cubicBezTo>
                <a:cubicBezTo>
                  <a:pt x="13932" y="10793"/>
                  <a:pt x="14045" y="10882"/>
                  <a:pt x="14114" y="10988"/>
                </a:cubicBezTo>
              </a:path>
              <a:path w="6946" h="3425">
                <a:moveTo>
                  <a:pt x="14238" y="12105"/>
                </a:moveTo>
                <a:cubicBezTo>
                  <a:pt x="14436" y="12194"/>
                  <a:pt x="14642" y="12211"/>
                  <a:pt x="14858" y="12105"/>
                </a:cubicBezTo>
                <a:cubicBezTo>
                  <a:pt x="15019" y="12026"/>
                  <a:pt x="15021" y="11795"/>
                  <a:pt x="14932" y="11658"/>
                </a:cubicBezTo>
                <a:cubicBezTo>
                  <a:pt x="14839" y="11515"/>
                  <a:pt x="14522" y="11465"/>
                  <a:pt x="14387" y="11584"/>
                </a:cubicBezTo>
                <a:cubicBezTo>
                  <a:pt x="14201" y="11748"/>
                  <a:pt x="14195" y="12046"/>
                  <a:pt x="14387" y="12204"/>
                </a:cubicBezTo>
                <a:cubicBezTo>
                  <a:pt x="14428" y="12221"/>
                  <a:pt x="14470" y="12237"/>
                  <a:pt x="14511" y="122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86240" y="4224240"/>
            <a:ext cx="17640" cy="115920"/>
          </a:xfrm>
          <a:custGeom>
            <a:avLst/>
            <a:gdLst/>
            <a:ahLst/>
            <a:rect l="l" t="t" r="r" b="b"/>
            <a:pathLst>
              <a:path w="51" h="323">
                <a:moveTo>
                  <a:pt x="14734" y="11733"/>
                </a:moveTo>
                <a:cubicBezTo>
                  <a:pt x="14717" y="11832"/>
                  <a:pt x="14698" y="11930"/>
                  <a:pt x="14684" y="12030"/>
                </a:cubicBezTo>
                <a:cubicBezTo>
                  <a:pt x="14684" y="12038"/>
                  <a:pt x="14684" y="12047"/>
                  <a:pt x="14684" y="120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2240" y="4268880"/>
            <a:ext cx="71640" cy="36360"/>
          </a:xfrm>
          <a:custGeom>
            <a:avLst/>
            <a:gdLst/>
            <a:ahLst/>
            <a:rect l="l" t="t" r="r" b="b"/>
            <a:pathLst>
              <a:path w="199" h="100">
                <a:moveTo>
                  <a:pt x="14536" y="11857"/>
                </a:moveTo>
                <a:cubicBezTo>
                  <a:pt x="14580" y="11872"/>
                  <a:pt x="14558" y="11878"/>
                  <a:pt x="14536" y="11931"/>
                </a:cubicBezTo>
                <a:cubicBezTo>
                  <a:pt x="14626" y="11954"/>
                  <a:pt x="14648" y="11960"/>
                  <a:pt x="14734" y="119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60960" y="4510080"/>
            <a:ext cx="339840" cy="241200"/>
          </a:xfrm>
          <a:custGeom>
            <a:avLst/>
            <a:gdLst/>
            <a:ahLst/>
            <a:rect l="l" t="t" r="r" b="b"/>
            <a:pathLst>
              <a:path w="944" h="671">
                <a:moveTo>
                  <a:pt x="14387" y="13047"/>
                </a:moveTo>
                <a:cubicBezTo>
                  <a:pt x="14575" y="13162"/>
                  <a:pt x="14776" y="13231"/>
                  <a:pt x="15007" y="13196"/>
                </a:cubicBezTo>
                <a:cubicBezTo>
                  <a:pt x="15199" y="13167"/>
                  <a:pt x="15352" y="12997"/>
                  <a:pt x="15255" y="12799"/>
                </a:cubicBezTo>
                <a:cubicBezTo>
                  <a:pt x="15173" y="12632"/>
                  <a:pt x="14816" y="12471"/>
                  <a:pt x="14635" y="12526"/>
                </a:cubicBezTo>
                <a:cubicBezTo>
                  <a:pt x="14415" y="12593"/>
                  <a:pt x="14231" y="12883"/>
                  <a:pt x="14387" y="13097"/>
                </a:cubicBezTo>
                <a:cubicBezTo>
                  <a:pt x="14437" y="13130"/>
                  <a:pt x="14486" y="13163"/>
                  <a:pt x="14536" y="131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48160" y="4562640"/>
            <a:ext cx="9720" cy="152280"/>
          </a:xfrm>
          <a:custGeom>
            <a:avLst/>
            <a:gdLst/>
            <a:ahLst/>
            <a:rect l="l" t="t" r="r" b="b"/>
            <a:pathLst>
              <a:path w="26" h="423">
                <a:moveTo>
                  <a:pt x="14883" y="12675"/>
                </a:moveTo>
                <a:cubicBezTo>
                  <a:pt x="14883" y="12801"/>
                  <a:pt x="14863" y="12922"/>
                  <a:pt x="14858" y="13047"/>
                </a:cubicBezTo>
                <a:cubicBezTo>
                  <a:pt x="14858" y="13064"/>
                  <a:pt x="14858" y="13080"/>
                  <a:pt x="14858" y="130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41960" y="4606920"/>
            <a:ext cx="1080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14660" y="12799"/>
                </a:moveTo>
                <a:cubicBezTo>
                  <a:pt x="14630" y="12853"/>
                  <a:pt x="14600" y="12901"/>
                  <a:pt x="14560" y="12948"/>
                </a:cubicBezTo>
                <a:cubicBezTo>
                  <a:pt x="14629" y="12948"/>
                  <a:pt x="14800" y="12967"/>
                  <a:pt x="14858" y="12923"/>
                </a:cubicBezTo>
                <a:cubicBezTo>
                  <a:pt x="14858" y="12915"/>
                  <a:pt x="14858" y="12906"/>
                  <a:pt x="14858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4964040"/>
            <a:ext cx="304920" cy="260280"/>
          </a:xfrm>
          <a:custGeom>
            <a:avLst/>
            <a:gdLst/>
            <a:ahLst/>
            <a:rect l="l" t="t" r="r" b="b"/>
            <a:pathLst>
              <a:path w="844" h="721">
                <a:moveTo>
                  <a:pt x="14412" y="14312"/>
                </a:moveTo>
                <a:cubicBezTo>
                  <a:pt x="14583" y="14543"/>
                  <a:pt x="14700" y="14523"/>
                  <a:pt x="14982" y="14486"/>
                </a:cubicBezTo>
                <a:cubicBezTo>
                  <a:pt x="15220" y="14454"/>
                  <a:pt x="15291" y="14320"/>
                  <a:pt x="15230" y="14089"/>
                </a:cubicBezTo>
                <a:cubicBezTo>
                  <a:pt x="15170" y="13859"/>
                  <a:pt x="14862" y="13713"/>
                  <a:pt x="14635" y="13791"/>
                </a:cubicBezTo>
                <a:cubicBezTo>
                  <a:pt x="14227" y="13931"/>
                  <a:pt x="14451" y="14309"/>
                  <a:pt x="14635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7880" y="5018040"/>
            <a:ext cx="1440" cy="125640"/>
          </a:xfrm>
          <a:custGeom>
            <a:avLst/>
            <a:gdLst/>
            <a:ahLst/>
            <a:rect l="l" t="t" r="r" b="b"/>
            <a:pathLst>
              <a:path w="1" h="349">
                <a:moveTo>
                  <a:pt x="14883" y="13940"/>
                </a:moveTo>
                <a:cubicBezTo>
                  <a:pt x="14883" y="14056"/>
                  <a:pt x="14883" y="14172"/>
                  <a:pt x="14883" y="142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49880" y="5045040"/>
            <a:ext cx="117360" cy="3672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4585" y="14039"/>
                </a:moveTo>
                <a:cubicBezTo>
                  <a:pt x="14650" y="14019"/>
                  <a:pt x="14597" y="14067"/>
                  <a:pt x="14585" y="14114"/>
                </a:cubicBezTo>
                <a:cubicBezTo>
                  <a:pt x="14693" y="14114"/>
                  <a:pt x="14800" y="14114"/>
                  <a:pt x="14908" y="141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2320" y="3000240"/>
            <a:ext cx="704880" cy="214560"/>
          </a:xfrm>
          <a:custGeom>
            <a:avLst/>
            <a:gdLst/>
            <a:ahLst/>
            <a:rect l="l" t="t" r="r" b="b"/>
            <a:pathLst>
              <a:path w="1960" h="597">
                <a:moveTo>
                  <a:pt x="1811" y="8384"/>
                </a:moveTo>
                <a:cubicBezTo>
                  <a:pt x="1811" y="8259"/>
                  <a:pt x="1839" y="8582"/>
                  <a:pt x="1860" y="8706"/>
                </a:cubicBezTo>
                <a:cubicBezTo>
                  <a:pt x="1874" y="8790"/>
                  <a:pt x="1850" y="8845"/>
                  <a:pt x="1910" y="8905"/>
                </a:cubicBezTo>
              </a:path>
              <a:path w="1960" h="597">
                <a:moveTo>
                  <a:pt x="2208" y="8533"/>
                </a:moveTo>
                <a:cubicBezTo>
                  <a:pt x="2292" y="8533"/>
                  <a:pt x="2405" y="8501"/>
                  <a:pt x="2480" y="8508"/>
                </a:cubicBezTo>
                <a:cubicBezTo>
                  <a:pt x="2521" y="8528"/>
                  <a:pt x="2527" y="8537"/>
                  <a:pt x="2555" y="8533"/>
                </a:cubicBezTo>
              </a:path>
              <a:path w="1960" h="597">
                <a:moveTo>
                  <a:pt x="2679" y="8434"/>
                </a:moveTo>
                <a:cubicBezTo>
                  <a:pt x="2767" y="8397"/>
                  <a:pt x="3014" y="8268"/>
                  <a:pt x="3026" y="8458"/>
                </a:cubicBezTo>
                <a:cubicBezTo>
                  <a:pt x="3036" y="8611"/>
                  <a:pt x="2857" y="8728"/>
                  <a:pt x="2803" y="8855"/>
                </a:cubicBezTo>
                <a:cubicBezTo>
                  <a:pt x="2947" y="8845"/>
                  <a:pt x="3084" y="8809"/>
                  <a:pt x="3225" y="8781"/>
                </a:cubicBezTo>
                <a:cubicBezTo>
                  <a:pt x="3233" y="8781"/>
                  <a:pt x="3241" y="8781"/>
                  <a:pt x="3249" y="8781"/>
                </a:cubicBezTo>
              </a:path>
              <a:path w="1960" h="597">
                <a:moveTo>
                  <a:pt x="3473" y="8409"/>
                </a:moveTo>
                <a:cubicBezTo>
                  <a:pt x="3315" y="8513"/>
                  <a:pt x="3342" y="8618"/>
                  <a:pt x="3373" y="8781"/>
                </a:cubicBezTo>
                <a:cubicBezTo>
                  <a:pt x="3539" y="8829"/>
                  <a:pt x="3792" y="8794"/>
                  <a:pt x="3770" y="8533"/>
                </a:cubicBezTo>
                <a:cubicBezTo>
                  <a:pt x="3751" y="8309"/>
                  <a:pt x="3495" y="8323"/>
                  <a:pt x="3373" y="83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25760" y="2938320"/>
            <a:ext cx="749160" cy="231840"/>
          </a:xfrm>
          <a:custGeom>
            <a:avLst/>
            <a:gdLst/>
            <a:ahLst/>
            <a:rect l="l" t="t" r="r" b="b"/>
            <a:pathLst>
              <a:path w="2085" h="646">
                <a:moveTo>
                  <a:pt x="4762" y="8434"/>
                </a:moveTo>
                <a:cubicBezTo>
                  <a:pt x="4656" y="8444"/>
                  <a:pt x="4613" y="8459"/>
                  <a:pt x="4539" y="8533"/>
                </a:cubicBezTo>
                <a:cubicBezTo>
                  <a:pt x="4645" y="8581"/>
                  <a:pt x="4751" y="8618"/>
                  <a:pt x="4862" y="8657"/>
                </a:cubicBezTo>
                <a:cubicBezTo>
                  <a:pt x="4822" y="8778"/>
                  <a:pt x="4698" y="8842"/>
                  <a:pt x="4564" y="8806"/>
                </a:cubicBezTo>
                <a:cubicBezTo>
                  <a:pt x="4547" y="8789"/>
                  <a:pt x="4531" y="8773"/>
                  <a:pt x="4514" y="8756"/>
                </a:cubicBezTo>
              </a:path>
              <a:path w="2085" h="646">
                <a:moveTo>
                  <a:pt x="5308" y="8384"/>
                </a:moveTo>
                <a:cubicBezTo>
                  <a:pt x="5285" y="8477"/>
                  <a:pt x="5199" y="8391"/>
                  <a:pt x="5135" y="8359"/>
                </a:cubicBezTo>
                <a:cubicBezTo>
                  <a:pt x="5048" y="8446"/>
                  <a:pt x="4857" y="8697"/>
                  <a:pt x="5110" y="8756"/>
                </a:cubicBezTo>
                <a:cubicBezTo>
                  <a:pt x="5262" y="8725"/>
                  <a:pt x="5327" y="8700"/>
                  <a:pt x="5407" y="8607"/>
                </a:cubicBezTo>
              </a:path>
              <a:path w="2085" h="646">
                <a:moveTo>
                  <a:pt x="5482" y="8409"/>
                </a:moveTo>
                <a:cubicBezTo>
                  <a:pt x="5388" y="8562"/>
                  <a:pt x="5341" y="8572"/>
                  <a:pt x="5407" y="8731"/>
                </a:cubicBezTo>
                <a:cubicBezTo>
                  <a:pt x="5518" y="8631"/>
                  <a:pt x="5538" y="8579"/>
                  <a:pt x="5581" y="8434"/>
                </a:cubicBezTo>
                <a:cubicBezTo>
                  <a:pt x="5607" y="8520"/>
                  <a:pt x="5699" y="8745"/>
                  <a:pt x="5829" y="8657"/>
                </a:cubicBezTo>
                <a:cubicBezTo>
                  <a:pt x="6003" y="8539"/>
                  <a:pt x="5916" y="8308"/>
                  <a:pt x="5854" y="8161"/>
                </a:cubicBezTo>
                <a:cubicBezTo>
                  <a:pt x="5869" y="8314"/>
                  <a:pt x="5878" y="8485"/>
                  <a:pt x="5928" y="8632"/>
                </a:cubicBezTo>
                <a:cubicBezTo>
                  <a:pt x="5936" y="8640"/>
                  <a:pt x="5945" y="8649"/>
                  <a:pt x="5953" y="8657"/>
                </a:cubicBezTo>
              </a:path>
              <a:path w="2085" h="646">
                <a:moveTo>
                  <a:pt x="6102" y="8458"/>
                </a:moveTo>
                <a:cubicBezTo>
                  <a:pt x="6171" y="8453"/>
                  <a:pt x="6348" y="8454"/>
                  <a:pt x="6400" y="8409"/>
                </a:cubicBezTo>
                <a:cubicBezTo>
                  <a:pt x="6400" y="8384"/>
                  <a:pt x="6400" y="8376"/>
                  <a:pt x="6400" y="8359"/>
                </a:cubicBezTo>
                <a:cubicBezTo>
                  <a:pt x="6309" y="8359"/>
                  <a:pt x="6082" y="8361"/>
                  <a:pt x="6152" y="8533"/>
                </a:cubicBezTo>
                <a:cubicBezTo>
                  <a:pt x="6230" y="8725"/>
                  <a:pt x="6499" y="8599"/>
                  <a:pt x="6598" y="85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03200" y="3759120"/>
            <a:ext cx="1268640" cy="563760"/>
          </a:xfrm>
          <a:custGeom>
            <a:avLst/>
            <a:gdLst/>
            <a:ahLst/>
            <a:rect l="l" t="t" r="r" b="b"/>
            <a:pathLst>
              <a:path w="3524" h="1563">
                <a:moveTo>
                  <a:pt x="4142" y="10517"/>
                </a:moveTo>
                <a:cubicBezTo>
                  <a:pt x="4142" y="10741"/>
                  <a:pt x="4164" y="10963"/>
                  <a:pt x="4167" y="11187"/>
                </a:cubicBezTo>
                <a:cubicBezTo>
                  <a:pt x="4167" y="11298"/>
                  <a:pt x="4194" y="11321"/>
                  <a:pt x="4142" y="11361"/>
                </a:cubicBezTo>
              </a:path>
              <a:path w="3524" h="1563">
                <a:moveTo>
                  <a:pt x="3621" y="10641"/>
                </a:moveTo>
                <a:cubicBezTo>
                  <a:pt x="3872" y="10492"/>
                  <a:pt x="4241" y="10330"/>
                  <a:pt x="4539" y="10492"/>
                </a:cubicBezTo>
                <a:cubicBezTo>
                  <a:pt x="4564" y="10533"/>
                  <a:pt x="4589" y="10575"/>
                  <a:pt x="4614" y="10616"/>
                </a:cubicBezTo>
                <a:cubicBezTo>
                  <a:pt x="4475" y="10842"/>
                  <a:pt x="4392" y="10937"/>
                  <a:pt x="4118" y="10988"/>
                </a:cubicBezTo>
                <a:cubicBezTo>
                  <a:pt x="4360" y="10975"/>
                  <a:pt x="4505" y="11030"/>
                  <a:pt x="4614" y="11261"/>
                </a:cubicBezTo>
                <a:cubicBezTo>
                  <a:pt x="4634" y="11344"/>
                  <a:pt x="4642" y="11359"/>
                  <a:pt x="4638" y="11410"/>
                </a:cubicBezTo>
              </a:path>
              <a:path w="3524" h="1563">
                <a:moveTo>
                  <a:pt x="5259" y="11112"/>
                </a:moveTo>
                <a:cubicBezTo>
                  <a:pt x="5221" y="10999"/>
                  <a:pt x="5204" y="10967"/>
                  <a:pt x="5110" y="10889"/>
                </a:cubicBezTo>
                <a:cubicBezTo>
                  <a:pt x="4941" y="10969"/>
                  <a:pt x="4710" y="11181"/>
                  <a:pt x="4862" y="11410"/>
                </a:cubicBezTo>
                <a:cubicBezTo>
                  <a:pt x="5012" y="11636"/>
                  <a:pt x="5171" y="11250"/>
                  <a:pt x="5209" y="11187"/>
                </a:cubicBezTo>
                <a:cubicBezTo>
                  <a:pt x="5217" y="11154"/>
                  <a:pt x="5226" y="11121"/>
                  <a:pt x="5234" y="11088"/>
                </a:cubicBezTo>
                <a:cubicBezTo>
                  <a:pt x="5243" y="11168"/>
                  <a:pt x="5238" y="11227"/>
                  <a:pt x="5333" y="11261"/>
                </a:cubicBezTo>
                <a:cubicBezTo>
                  <a:pt x="5495" y="11319"/>
                  <a:pt x="5466" y="11027"/>
                  <a:pt x="5556" y="11261"/>
                </a:cubicBezTo>
                <a:cubicBezTo>
                  <a:pt x="5626" y="11442"/>
                  <a:pt x="5551" y="11364"/>
                  <a:pt x="5581" y="11336"/>
                </a:cubicBezTo>
                <a:cubicBezTo>
                  <a:pt x="5546" y="11144"/>
                  <a:pt x="5542" y="11089"/>
                  <a:pt x="5606" y="10914"/>
                </a:cubicBezTo>
                <a:cubicBezTo>
                  <a:pt x="5848" y="10900"/>
                  <a:pt x="5938" y="11011"/>
                  <a:pt x="5978" y="11261"/>
                </a:cubicBezTo>
                <a:cubicBezTo>
                  <a:pt x="5978" y="11352"/>
                  <a:pt x="5978" y="11360"/>
                  <a:pt x="5978" y="11410"/>
                </a:cubicBezTo>
              </a:path>
              <a:path w="3524" h="1563">
                <a:moveTo>
                  <a:pt x="6300" y="10964"/>
                </a:moveTo>
                <a:cubicBezTo>
                  <a:pt x="6101" y="11145"/>
                  <a:pt x="5977" y="11259"/>
                  <a:pt x="6102" y="11509"/>
                </a:cubicBezTo>
                <a:cubicBezTo>
                  <a:pt x="6289" y="11381"/>
                  <a:pt x="6325" y="11327"/>
                  <a:pt x="6325" y="11088"/>
                </a:cubicBezTo>
                <a:cubicBezTo>
                  <a:pt x="6382" y="11285"/>
                  <a:pt x="6449" y="11494"/>
                  <a:pt x="6449" y="11708"/>
                </a:cubicBezTo>
                <a:cubicBezTo>
                  <a:pt x="6449" y="12035"/>
                  <a:pt x="6258" y="12040"/>
                  <a:pt x="6028" y="11931"/>
                </a:cubicBezTo>
              </a:path>
              <a:path w="3524" h="1563">
                <a:moveTo>
                  <a:pt x="6623" y="11137"/>
                </a:moveTo>
                <a:cubicBezTo>
                  <a:pt x="6699" y="11122"/>
                  <a:pt x="6745" y="11112"/>
                  <a:pt x="6821" y="11112"/>
                </a:cubicBezTo>
                <a:cubicBezTo>
                  <a:pt x="6734" y="10986"/>
                  <a:pt x="6602" y="10930"/>
                  <a:pt x="6548" y="11162"/>
                </a:cubicBezTo>
                <a:cubicBezTo>
                  <a:pt x="6483" y="11445"/>
                  <a:pt x="6708" y="11500"/>
                  <a:pt x="6921" y="11410"/>
                </a:cubicBezTo>
                <a:cubicBezTo>
                  <a:pt x="6995" y="11369"/>
                  <a:pt x="7070" y="11327"/>
                  <a:pt x="7144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5080" y="2017800"/>
            <a:ext cx="1859040" cy="474480"/>
          </a:xfrm>
          <a:custGeom>
            <a:avLst/>
            <a:gdLst/>
            <a:ahLst/>
            <a:rect l="l" t="t" r="r" b="b"/>
            <a:pathLst>
              <a:path w="5161" h="1316">
                <a:moveTo>
                  <a:pt x="5655" y="6921"/>
                </a:moveTo>
                <a:cubicBezTo>
                  <a:pt x="5886" y="6858"/>
                  <a:pt x="6116" y="6800"/>
                  <a:pt x="6350" y="6747"/>
                </a:cubicBezTo>
              </a:path>
              <a:path w="5161" h="1316">
                <a:moveTo>
                  <a:pt x="9947" y="5755"/>
                </a:moveTo>
                <a:cubicBezTo>
                  <a:pt x="9939" y="5755"/>
                  <a:pt x="9930" y="5755"/>
                  <a:pt x="9922" y="5755"/>
                </a:cubicBezTo>
              </a:path>
              <a:path w="5161" h="1316">
                <a:moveTo>
                  <a:pt x="9922" y="5755"/>
                </a:moveTo>
                <a:lnTo>
                  <a:pt x="9922" y="5755"/>
                </a:lnTo>
              </a:path>
              <a:path w="5161" h="1316">
                <a:moveTo>
                  <a:pt x="10616" y="5606"/>
                </a:moveTo>
                <a:cubicBezTo>
                  <a:pt x="10675" y="5820"/>
                  <a:pt x="10724" y="6001"/>
                  <a:pt x="10815" y="62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2394000"/>
            <a:ext cx="206280" cy="160200"/>
          </a:xfrm>
          <a:custGeom>
            <a:avLst/>
            <a:gdLst/>
            <a:ahLst/>
            <a:rect l="l" t="t" r="r" b="b"/>
            <a:pathLst>
              <a:path w="572" h="447">
                <a:moveTo>
                  <a:pt x="5879" y="6747"/>
                </a:moveTo>
                <a:cubicBezTo>
                  <a:pt x="5879" y="6819"/>
                  <a:pt x="5830" y="7142"/>
                  <a:pt x="5904" y="7045"/>
                </a:cubicBezTo>
              </a:path>
              <a:path w="572" h="447">
                <a:moveTo>
                  <a:pt x="6102" y="6648"/>
                </a:moveTo>
                <a:cubicBezTo>
                  <a:pt x="6123" y="6766"/>
                  <a:pt x="6212" y="6967"/>
                  <a:pt x="6152" y="7069"/>
                </a:cubicBezTo>
              </a:path>
              <a:path w="572" h="447">
                <a:moveTo>
                  <a:pt x="5829" y="7069"/>
                </a:moveTo>
                <a:cubicBezTo>
                  <a:pt x="6024" y="7009"/>
                  <a:pt x="6200" y="6958"/>
                  <a:pt x="6400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2920" y="2062080"/>
            <a:ext cx="1598400" cy="492120"/>
          </a:xfrm>
          <a:custGeom>
            <a:avLst/>
            <a:gdLst/>
            <a:ahLst/>
            <a:rect l="l" t="t" r="r" b="b"/>
            <a:pathLst>
              <a:path w="4441" h="1365">
                <a:moveTo>
                  <a:pt x="7169" y="6747"/>
                </a:moveTo>
                <a:cubicBezTo>
                  <a:pt x="7027" y="6711"/>
                  <a:pt x="7024" y="6744"/>
                  <a:pt x="6945" y="6896"/>
                </a:cubicBezTo>
                <a:cubicBezTo>
                  <a:pt x="6900" y="7011"/>
                  <a:pt x="6876" y="7046"/>
                  <a:pt x="6970" y="7094"/>
                </a:cubicBezTo>
                <a:cubicBezTo>
                  <a:pt x="7090" y="7052"/>
                  <a:pt x="7420" y="6899"/>
                  <a:pt x="7169" y="6747"/>
                </a:cubicBezTo>
                <a:cubicBezTo>
                  <a:pt x="7128" y="6739"/>
                  <a:pt x="7086" y="6730"/>
                  <a:pt x="7045" y="6722"/>
                </a:cubicBezTo>
              </a:path>
              <a:path w="4441" h="1365">
                <a:moveTo>
                  <a:pt x="7565" y="6400"/>
                </a:moveTo>
                <a:cubicBezTo>
                  <a:pt x="7410" y="6632"/>
                  <a:pt x="7513" y="6725"/>
                  <a:pt x="7565" y="6995"/>
                </a:cubicBezTo>
                <a:cubicBezTo>
                  <a:pt x="7565" y="7053"/>
                  <a:pt x="7565" y="7061"/>
                  <a:pt x="7565" y="7094"/>
                </a:cubicBezTo>
              </a:path>
              <a:path w="4441" h="1365">
                <a:moveTo>
                  <a:pt x="7392" y="6722"/>
                </a:moveTo>
                <a:cubicBezTo>
                  <a:pt x="7672" y="6664"/>
                  <a:pt x="7952" y="6618"/>
                  <a:pt x="8235" y="6573"/>
                </a:cubicBezTo>
              </a:path>
              <a:path w="4441" h="1365">
                <a:moveTo>
                  <a:pt x="8558" y="6697"/>
                </a:moveTo>
                <a:cubicBezTo>
                  <a:pt x="8574" y="6809"/>
                  <a:pt x="8603" y="6949"/>
                  <a:pt x="8582" y="7045"/>
                </a:cubicBezTo>
                <a:cubicBezTo>
                  <a:pt x="8455" y="6890"/>
                  <a:pt x="8458" y="6641"/>
                  <a:pt x="8558" y="6449"/>
                </a:cubicBezTo>
                <a:cubicBezTo>
                  <a:pt x="8591" y="6416"/>
                  <a:pt x="8624" y="6383"/>
                  <a:pt x="8657" y="6350"/>
                </a:cubicBezTo>
                <a:cubicBezTo>
                  <a:pt x="8817" y="6419"/>
                  <a:pt x="9037" y="6608"/>
                  <a:pt x="8731" y="6722"/>
                </a:cubicBezTo>
                <a:cubicBezTo>
                  <a:pt x="8579" y="6744"/>
                  <a:pt x="8540" y="6762"/>
                  <a:pt x="8458" y="6697"/>
                </a:cubicBezTo>
              </a:path>
              <a:path w="4441" h="1365">
                <a:moveTo>
                  <a:pt x="8979" y="6325"/>
                </a:moveTo>
                <a:cubicBezTo>
                  <a:pt x="8911" y="6462"/>
                  <a:pt x="8884" y="6499"/>
                  <a:pt x="8930" y="6598"/>
                </a:cubicBezTo>
                <a:cubicBezTo>
                  <a:pt x="9051" y="6651"/>
                  <a:pt x="9226" y="6531"/>
                  <a:pt x="9203" y="6375"/>
                </a:cubicBezTo>
                <a:cubicBezTo>
                  <a:pt x="9181" y="6224"/>
                  <a:pt x="8979" y="6327"/>
                  <a:pt x="8905" y="6350"/>
                </a:cubicBezTo>
              </a:path>
              <a:path w="4441" h="1365">
                <a:moveTo>
                  <a:pt x="9401" y="6176"/>
                </a:moveTo>
                <a:cubicBezTo>
                  <a:pt x="9275" y="6239"/>
                  <a:pt x="9240" y="6243"/>
                  <a:pt x="9203" y="6325"/>
                </a:cubicBezTo>
                <a:cubicBezTo>
                  <a:pt x="9323" y="6385"/>
                  <a:pt x="9441" y="6428"/>
                  <a:pt x="9525" y="6524"/>
                </a:cubicBezTo>
                <a:cubicBezTo>
                  <a:pt x="9351" y="6591"/>
                  <a:pt x="9340" y="6596"/>
                  <a:pt x="9178" y="6524"/>
                </a:cubicBezTo>
              </a:path>
              <a:path w="4441" h="1365">
                <a:moveTo>
                  <a:pt x="9823" y="6102"/>
                </a:moveTo>
                <a:cubicBezTo>
                  <a:pt x="9724" y="6135"/>
                  <a:pt x="9673" y="6220"/>
                  <a:pt x="9599" y="6276"/>
                </a:cubicBezTo>
                <a:cubicBezTo>
                  <a:pt x="9591" y="6276"/>
                  <a:pt x="9583" y="6276"/>
                  <a:pt x="9575" y="6276"/>
                </a:cubicBezTo>
                <a:cubicBezTo>
                  <a:pt x="9687" y="6347"/>
                  <a:pt x="9826" y="6350"/>
                  <a:pt x="9922" y="6424"/>
                </a:cubicBezTo>
                <a:cubicBezTo>
                  <a:pt x="9811" y="6522"/>
                  <a:pt x="9790" y="6552"/>
                  <a:pt x="9649" y="6573"/>
                </a:cubicBezTo>
              </a:path>
              <a:path w="4441" h="1365">
                <a:moveTo>
                  <a:pt x="10021" y="6276"/>
                </a:moveTo>
                <a:cubicBezTo>
                  <a:pt x="10021" y="6391"/>
                  <a:pt x="10021" y="6408"/>
                  <a:pt x="10021" y="6474"/>
                </a:cubicBezTo>
              </a:path>
              <a:path w="4441" h="1365">
                <a:moveTo>
                  <a:pt x="10046" y="5730"/>
                </a:moveTo>
                <a:cubicBezTo>
                  <a:pt x="10156" y="5811"/>
                  <a:pt x="10192" y="6066"/>
                  <a:pt x="10269" y="6201"/>
                </a:cubicBezTo>
                <a:cubicBezTo>
                  <a:pt x="10286" y="6218"/>
                  <a:pt x="10302" y="6234"/>
                  <a:pt x="10319" y="6251"/>
                </a:cubicBezTo>
                <a:cubicBezTo>
                  <a:pt x="10319" y="6061"/>
                  <a:pt x="10312" y="6034"/>
                  <a:pt x="10468" y="5978"/>
                </a:cubicBezTo>
                <a:cubicBezTo>
                  <a:pt x="10571" y="6088"/>
                  <a:pt x="10677" y="6319"/>
                  <a:pt x="10393" y="6300"/>
                </a:cubicBezTo>
                <a:cubicBezTo>
                  <a:pt x="10249" y="6243"/>
                  <a:pt x="10207" y="6205"/>
                  <a:pt x="10269" y="6052"/>
                </a:cubicBezTo>
              </a:path>
              <a:path w="4441" h="1365">
                <a:moveTo>
                  <a:pt x="10939" y="5904"/>
                </a:moveTo>
                <a:cubicBezTo>
                  <a:pt x="11009" y="5886"/>
                  <a:pt x="11206" y="5883"/>
                  <a:pt x="11187" y="5779"/>
                </a:cubicBezTo>
                <a:cubicBezTo>
                  <a:pt x="11179" y="5763"/>
                  <a:pt x="11170" y="5746"/>
                  <a:pt x="11162" y="5730"/>
                </a:cubicBezTo>
                <a:cubicBezTo>
                  <a:pt x="11000" y="5767"/>
                  <a:pt x="10803" y="5924"/>
                  <a:pt x="10914" y="6127"/>
                </a:cubicBezTo>
                <a:cubicBezTo>
                  <a:pt x="10982" y="6252"/>
                  <a:pt x="11258" y="6122"/>
                  <a:pt x="11336" y="61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27160" y="2562120"/>
            <a:ext cx="1062000" cy="358920"/>
          </a:xfrm>
          <a:custGeom>
            <a:avLst/>
            <a:gdLst/>
            <a:ahLst/>
            <a:rect l="l" t="t" r="r" b="b"/>
            <a:pathLst>
              <a:path w="2952" h="993">
                <a:moveTo>
                  <a:pt x="5879" y="7863"/>
                </a:moveTo>
                <a:cubicBezTo>
                  <a:pt x="5821" y="7863"/>
                  <a:pt x="5793" y="7837"/>
                  <a:pt x="5779" y="7764"/>
                </a:cubicBezTo>
                <a:cubicBezTo>
                  <a:pt x="5674" y="7811"/>
                  <a:pt x="5534" y="7995"/>
                  <a:pt x="5680" y="8111"/>
                </a:cubicBezTo>
                <a:cubicBezTo>
                  <a:pt x="5814" y="8218"/>
                  <a:pt x="5903" y="7869"/>
                  <a:pt x="5928" y="7813"/>
                </a:cubicBezTo>
                <a:cubicBezTo>
                  <a:pt x="5968" y="7880"/>
                  <a:pt x="5986" y="7967"/>
                  <a:pt x="6102" y="7938"/>
                </a:cubicBezTo>
                <a:cubicBezTo>
                  <a:pt x="6215" y="7909"/>
                  <a:pt x="6182" y="7854"/>
                  <a:pt x="6251" y="7888"/>
                </a:cubicBezTo>
                <a:cubicBezTo>
                  <a:pt x="6193" y="7810"/>
                  <a:pt x="6197" y="7645"/>
                  <a:pt x="6300" y="7590"/>
                </a:cubicBezTo>
                <a:cubicBezTo>
                  <a:pt x="6479" y="7495"/>
                  <a:pt x="6616" y="7770"/>
                  <a:pt x="6648" y="7888"/>
                </a:cubicBezTo>
              </a:path>
              <a:path w="2952" h="993">
                <a:moveTo>
                  <a:pt x="6772" y="7491"/>
                </a:moveTo>
                <a:cubicBezTo>
                  <a:pt x="6711" y="7572"/>
                  <a:pt x="6696" y="7584"/>
                  <a:pt x="6672" y="7640"/>
                </a:cubicBezTo>
                <a:cubicBezTo>
                  <a:pt x="6778" y="7687"/>
                  <a:pt x="6878" y="7727"/>
                  <a:pt x="6970" y="7789"/>
                </a:cubicBezTo>
                <a:cubicBezTo>
                  <a:pt x="6781" y="7902"/>
                  <a:pt x="6698" y="7901"/>
                  <a:pt x="6648" y="7689"/>
                </a:cubicBezTo>
              </a:path>
              <a:path w="2952" h="993">
                <a:moveTo>
                  <a:pt x="7045" y="7491"/>
                </a:moveTo>
                <a:cubicBezTo>
                  <a:pt x="7047" y="7531"/>
                  <a:pt x="7044" y="7867"/>
                  <a:pt x="7193" y="7764"/>
                </a:cubicBezTo>
                <a:cubicBezTo>
                  <a:pt x="7270" y="7663"/>
                  <a:pt x="7296" y="7627"/>
                  <a:pt x="7317" y="7541"/>
                </a:cubicBezTo>
                <a:cubicBezTo>
                  <a:pt x="7317" y="7533"/>
                  <a:pt x="7317" y="7524"/>
                  <a:pt x="7317" y="7516"/>
                </a:cubicBezTo>
                <a:cubicBezTo>
                  <a:pt x="7311" y="7577"/>
                  <a:pt x="7355" y="7817"/>
                  <a:pt x="7466" y="7665"/>
                </a:cubicBezTo>
                <a:cubicBezTo>
                  <a:pt x="7537" y="7567"/>
                  <a:pt x="7521" y="7485"/>
                  <a:pt x="7466" y="7417"/>
                </a:cubicBezTo>
              </a:path>
              <a:path w="2952" h="993">
                <a:moveTo>
                  <a:pt x="7615" y="7466"/>
                </a:moveTo>
                <a:cubicBezTo>
                  <a:pt x="7722" y="7392"/>
                  <a:pt x="7725" y="7418"/>
                  <a:pt x="7739" y="7293"/>
                </a:cubicBezTo>
                <a:cubicBezTo>
                  <a:pt x="7661" y="7342"/>
                  <a:pt x="7489" y="7554"/>
                  <a:pt x="7689" y="7615"/>
                </a:cubicBezTo>
                <a:cubicBezTo>
                  <a:pt x="7825" y="7657"/>
                  <a:pt x="7928" y="7252"/>
                  <a:pt x="8012" y="7367"/>
                </a:cubicBezTo>
                <a:cubicBezTo>
                  <a:pt x="8012" y="7417"/>
                  <a:pt x="8012" y="7433"/>
                  <a:pt x="8012" y="7466"/>
                </a:cubicBezTo>
                <a:cubicBezTo>
                  <a:pt x="8034" y="7315"/>
                  <a:pt x="8110" y="7202"/>
                  <a:pt x="8260" y="7144"/>
                </a:cubicBezTo>
                <a:cubicBezTo>
                  <a:pt x="8310" y="7136"/>
                  <a:pt x="8359" y="7127"/>
                  <a:pt x="8409" y="7119"/>
                </a:cubicBezTo>
              </a:path>
              <a:path w="2952" h="993">
                <a:moveTo>
                  <a:pt x="8508" y="7144"/>
                </a:moveTo>
                <a:cubicBezTo>
                  <a:pt x="8440" y="7175"/>
                  <a:pt x="8369" y="7203"/>
                  <a:pt x="8310" y="7243"/>
                </a:cubicBezTo>
                <a:cubicBezTo>
                  <a:pt x="8395" y="7297"/>
                  <a:pt x="8498" y="7318"/>
                  <a:pt x="8582" y="7367"/>
                </a:cubicBezTo>
                <a:cubicBezTo>
                  <a:pt x="8429" y="7439"/>
                  <a:pt x="8397" y="7430"/>
                  <a:pt x="8235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03200" y="6769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621" y="18802"/>
                </a:moveTo>
                <a:lnTo>
                  <a:pt x="3621" y="18802"/>
                </a:lnTo>
              </a:path>
              <a:path w="1" h="1">
                <a:moveTo>
                  <a:pt x="3621" y="18802"/>
                </a:moveTo>
                <a:lnTo>
                  <a:pt x="3621" y="1880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f"/>
                </a:solidFill>
                <a:latin typeface="Arial"/>
              </a:rPr>
              <a:t>Objective: Students will set intervals for frequency tables.</a:t>
            </a: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reating Frequency Table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 – Gather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 – Analyze data, determine scale and interval size (high/lo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3 – Set up intervals, making sure you don’t overl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4 – Create tallies, marking off each data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5 – Record frequencies in “final copy” col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6 – Check step.  Count data points and total frequ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a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4, 218, 117, 15, 443, 225, 319, 281, 128, 31, 474, 495, 221, 202, 164, 88, 428, 301, 464, 52, 44, 74, 18, 3, 24, 23, 51, 4, 79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" y="1204920"/>
            <a:ext cx="8342280" cy="2081160"/>
          </a:xfrm>
          <a:custGeom>
            <a:avLst/>
            <a:gdLst/>
            <a:ahLst/>
            <a:rect l="l" t="t" r="r" b="b"/>
            <a:pathLst>
              <a:path w="23169" h="5780">
                <a:moveTo>
                  <a:pt x="298" y="7640"/>
                </a:moveTo>
                <a:cubicBezTo>
                  <a:pt x="468" y="7516"/>
                  <a:pt x="582" y="7432"/>
                  <a:pt x="794" y="7417"/>
                </a:cubicBezTo>
                <a:cubicBezTo>
                  <a:pt x="828" y="7701"/>
                  <a:pt x="674" y="7868"/>
                  <a:pt x="595" y="8136"/>
                </a:cubicBezTo>
                <a:cubicBezTo>
                  <a:pt x="587" y="8186"/>
                  <a:pt x="579" y="8235"/>
                  <a:pt x="571" y="8285"/>
                </a:cubicBezTo>
                <a:cubicBezTo>
                  <a:pt x="728" y="8271"/>
                  <a:pt x="883" y="8084"/>
                  <a:pt x="992" y="7938"/>
                </a:cubicBezTo>
                <a:cubicBezTo>
                  <a:pt x="1017" y="7896"/>
                  <a:pt x="1042" y="7855"/>
                  <a:pt x="1067" y="7813"/>
                </a:cubicBezTo>
              </a:path>
              <a:path w="23169" h="5780">
                <a:moveTo>
                  <a:pt x="1339" y="7119"/>
                </a:moveTo>
                <a:cubicBezTo>
                  <a:pt x="1194" y="7173"/>
                  <a:pt x="1017" y="7269"/>
                  <a:pt x="1042" y="7466"/>
                </a:cubicBezTo>
                <a:cubicBezTo>
                  <a:pt x="1058" y="7483"/>
                  <a:pt x="1075" y="7499"/>
                  <a:pt x="1091" y="7516"/>
                </a:cubicBezTo>
                <a:cubicBezTo>
                  <a:pt x="1265" y="7423"/>
                  <a:pt x="1278" y="7346"/>
                  <a:pt x="1290" y="7144"/>
                </a:cubicBezTo>
                <a:cubicBezTo>
                  <a:pt x="1322" y="7270"/>
                  <a:pt x="1447" y="7336"/>
                  <a:pt x="1488" y="7491"/>
                </a:cubicBezTo>
                <a:cubicBezTo>
                  <a:pt x="1511" y="7648"/>
                  <a:pt x="1529" y="7692"/>
                  <a:pt x="1439" y="7764"/>
                </a:cubicBezTo>
              </a:path>
              <a:path w="23169" h="5780">
                <a:moveTo>
                  <a:pt x="446" y="8781"/>
                </a:moveTo>
                <a:cubicBezTo>
                  <a:pt x="817" y="8767"/>
                  <a:pt x="1092" y="8558"/>
                  <a:pt x="1339" y="8260"/>
                </a:cubicBezTo>
                <a:cubicBezTo>
                  <a:pt x="1576" y="7973"/>
                  <a:pt x="1825" y="7458"/>
                  <a:pt x="1488" y="7144"/>
                </a:cubicBezTo>
                <a:cubicBezTo>
                  <a:pt x="1241" y="6914"/>
                  <a:pt x="167" y="6938"/>
                  <a:pt x="99" y="7367"/>
                </a:cubicBezTo>
                <a:cubicBezTo>
                  <a:pt x="-134" y="8831"/>
                  <a:pt x="-54" y="8987"/>
                  <a:pt x="819" y="8706"/>
                </a:cubicBezTo>
              </a:path>
              <a:path w="23169" h="5780">
                <a:moveTo>
                  <a:pt x="1612" y="8830"/>
                </a:moveTo>
                <a:cubicBezTo>
                  <a:pt x="1628" y="8783"/>
                  <a:pt x="1747" y="8745"/>
                  <a:pt x="1811" y="8731"/>
                </a:cubicBezTo>
                <a:cubicBezTo>
                  <a:pt x="1827" y="8731"/>
                  <a:pt x="1844" y="8731"/>
                  <a:pt x="1860" y="8731"/>
                </a:cubicBezTo>
                <a:cubicBezTo>
                  <a:pt x="1912" y="8835"/>
                  <a:pt x="1866" y="8843"/>
                  <a:pt x="1786" y="8905"/>
                </a:cubicBezTo>
                <a:cubicBezTo>
                  <a:pt x="1778" y="8913"/>
                  <a:pt x="1769" y="8922"/>
                  <a:pt x="1761" y="8930"/>
                </a:cubicBezTo>
                <a:cubicBezTo>
                  <a:pt x="1843" y="8930"/>
                  <a:pt x="1901" y="8921"/>
                  <a:pt x="1885" y="9029"/>
                </a:cubicBezTo>
                <a:cubicBezTo>
                  <a:pt x="1870" y="9130"/>
                  <a:pt x="1762" y="9128"/>
                  <a:pt x="1687" y="9128"/>
                </a:cubicBezTo>
              </a:path>
              <a:path w="23169" h="5780">
                <a:moveTo>
                  <a:pt x="4862" y="7243"/>
                </a:moveTo>
                <a:lnTo>
                  <a:pt x="4862" y="7243"/>
                </a:lnTo>
              </a:path>
              <a:path w="23169" h="5780">
                <a:moveTo>
                  <a:pt x="1364" y="4614"/>
                </a:moveTo>
                <a:cubicBezTo>
                  <a:pt x="1439" y="4513"/>
                  <a:pt x="1525" y="4481"/>
                  <a:pt x="1662" y="4415"/>
                </a:cubicBezTo>
                <a:cubicBezTo>
                  <a:pt x="2199" y="4158"/>
                  <a:pt x="2734" y="3896"/>
                  <a:pt x="3274" y="3646"/>
                </a:cubicBezTo>
                <a:cubicBezTo>
                  <a:pt x="3365" y="3604"/>
                  <a:pt x="3464" y="3564"/>
                  <a:pt x="3547" y="3522"/>
                </a:cubicBezTo>
              </a:path>
              <a:path w="23169" h="5780">
                <a:moveTo>
                  <a:pt x="4018" y="4514"/>
                </a:moveTo>
                <a:cubicBezTo>
                  <a:pt x="4148" y="4401"/>
                  <a:pt x="4531" y="4237"/>
                  <a:pt x="4738" y="4142"/>
                </a:cubicBezTo>
                <a:cubicBezTo>
                  <a:pt x="5258" y="3904"/>
                  <a:pt x="5821" y="3690"/>
                  <a:pt x="6325" y="3423"/>
                </a:cubicBezTo>
                <a:cubicBezTo>
                  <a:pt x="6359" y="3405"/>
                  <a:pt x="6408" y="3359"/>
                  <a:pt x="6424" y="3349"/>
                </a:cubicBezTo>
              </a:path>
              <a:path w="23169" h="5780">
                <a:moveTo>
                  <a:pt x="6524" y="4564"/>
                </a:moveTo>
                <a:cubicBezTo>
                  <a:pt x="6583" y="4445"/>
                  <a:pt x="6637" y="4387"/>
                  <a:pt x="6772" y="4316"/>
                </a:cubicBezTo>
                <a:cubicBezTo>
                  <a:pt x="7262" y="4058"/>
                  <a:pt x="7785" y="3830"/>
                  <a:pt x="8260" y="3547"/>
                </a:cubicBezTo>
                <a:cubicBezTo>
                  <a:pt x="8313" y="3515"/>
                  <a:pt x="8335" y="3500"/>
                  <a:pt x="8384" y="3473"/>
                </a:cubicBezTo>
              </a:path>
              <a:path w="23169" h="5780">
                <a:moveTo>
                  <a:pt x="8830" y="4589"/>
                </a:moveTo>
                <a:cubicBezTo>
                  <a:pt x="8928" y="4534"/>
                  <a:pt x="9030" y="4456"/>
                  <a:pt x="9128" y="4390"/>
                </a:cubicBezTo>
                <a:cubicBezTo>
                  <a:pt x="9537" y="4113"/>
                  <a:pt x="9967" y="3846"/>
                  <a:pt x="10393" y="3597"/>
                </a:cubicBezTo>
                <a:cubicBezTo>
                  <a:pt x="10468" y="3553"/>
                  <a:pt x="10590" y="3492"/>
                  <a:pt x="10666" y="3448"/>
                </a:cubicBezTo>
              </a:path>
              <a:path w="23169" h="5780">
                <a:moveTo>
                  <a:pt x="11633" y="4762"/>
                </a:moveTo>
                <a:cubicBezTo>
                  <a:pt x="11633" y="4754"/>
                  <a:pt x="11633" y="4746"/>
                  <a:pt x="11633" y="4738"/>
                </a:cubicBezTo>
              </a:path>
              <a:path w="23169" h="5780">
                <a:moveTo>
                  <a:pt x="11013" y="4614"/>
                </a:moveTo>
                <a:cubicBezTo>
                  <a:pt x="11265" y="4396"/>
                  <a:pt x="11498" y="4284"/>
                  <a:pt x="11832" y="4142"/>
                </a:cubicBezTo>
                <a:cubicBezTo>
                  <a:pt x="12391" y="3905"/>
                  <a:pt x="12968" y="3618"/>
                  <a:pt x="13543" y="3423"/>
                </a:cubicBezTo>
                <a:cubicBezTo>
                  <a:pt x="13568" y="3423"/>
                  <a:pt x="13576" y="3423"/>
                  <a:pt x="13593" y="3423"/>
                </a:cubicBezTo>
              </a:path>
              <a:path w="23169" h="5780">
                <a:moveTo>
                  <a:pt x="12874" y="5060"/>
                </a:moveTo>
                <a:cubicBezTo>
                  <a:pt x="12884" y="5039"/>
                  <a:pt x="13033" y="4944"/>
                  <a:pt x="13122" y="4887"/>
                </a:cubicBezTo>
                <a:cubicBezTo>
                  <a:pt x="13712" y="4512"/>
                  <a:pt x="14326" y="4324"/>
                  <a:pt x="14957" y="4043"/>
                </a:cubicBezTo>
                <a:cubicBezTo>
                  <a:pt x="15089" y="3968"/>
                  <a:pt x="15104" y="3957"/>
                  <a:pt x="15180" y="3919"/>
                </a:cubicBezTo>
              </a:path>
              <a:path w="23169" h="5780">
                <a:moveTo>
                  <a:pt x="15925" y="4291"/>
                </a:moveTo>
                <a:cubicBezTo>
                  <a:pt x="16032" y="4243"/>
                  <a:pt x="16515" y="4028"/>
                  <a:pt x="16644" y="3969"/>
                </a:cubicBezTo>
                <a:cubicBezTo>
                  <a:pt x="16968" y="3821"/>
                  <a:pt x="17601" y="3422"/>
                  <a:pt x="17909" y="3423"/>
                </a:cubicBezTo>
                <a:cubicBezTo>
                  <a:pt x="17901" y="3431"/>
                  <a:pt x="17892" y="3440"/>
                  <a:pt x="17884" y="3448"/>
                </a:cubicBezTo>
              </a:path>
              <a:path w="23169" h="5780">
                <a:moveTo>
                  <a:pt x="18430" y="4217"/>
                </a:moveTo>
                <a:cubicBezTo>
                  <a:pt x="18557" y="4175"/>
                  <a:pt x="18627" y="4139"/>
                  <a:pt x="18752" y="4093"/>
                </a:cubicBezTo>
                <a:cubicBezTo>
                  <a:pt x="19238" y="3913"/>
                  <a:pt x="19728" y="3746"/>
                  <a:pt x="20216" y="3572"/>
                </a:cubicBezTo>
                <a:cubicBezTo>
                  <a:pt x="20366" y="3519"/>
                  <a:pt x="20281" y="3549"/>
                  <a:pt x="20290" y="3597"/>
                </a:cubicBezTo>
              </a:path>
              <a:path w="23169" h="5780">
                <a:moveTo>
                  <a:pt x="20489" y="4589"/>
                </a:moveTo>
                <a:cubicBezTo>
                  <a:pt x="20649" y="4482"/>
                  <a:pt x="20813" y="4382"/>
                  <a:pt x="21010" y="4316"/>
                </a:cubicBezTo>
                <a:cubicBezTo>
                  <a:pt x="21524" y="4145"/>
                  <a:pt x="22056" y="4051"/>
                  <a:pt x="22572" y="3894"/>
                </a:cubicBezTo>
                <a:cubicBezTo>
                  <a:pt x="22630" y="3876"/>
                  <a:pt x="22751" y="3832"/>
                  <a:pt x="22820" y="3820"/>
                </a:cubicBezTo>
                <a:cubicBezTo>
                  <a:pt x="22886" y="3809"/>
                  <a:pt x="22855" y="3819"/>
                  <a:pt x="22895" y="3795"/>
                </a:cubicBezTo>
              </a:path>
              <a:path w="23169" h="5780">
                <a:moveTo>
                  <a:pt x="4415" y="5879"/>
                </a:moveTo>
                <a:cubicBezTo>
                  <a:pt x="4726" y="5634"/>
                  <a:pt x="5083" y="5468"/>
                  <a:pt x="5457" y="5283"/>
                </a:cubicBezTo>
                <a:cubicBezTo>
                  <a:pt x="5781" y="5123"/>
                  <a:pt x="6214" y="4918"/>
                  <a:pt x="6524" y="4787"/>
                </a:cubicBezTo>
                <a:cubicBezTo>
                  <a:pt x="6532" y="4787"/>
                  <a:pt x="6540" y="4787"/>
                  <a:pt x="6548" y="4787"/>
                </a:cubicBezTo>
              </a:path>
              <a:path w="23169" h="5780">
                <a:moveTo>
                  <a:pt x="6945" y="5928"/>
                </a:moveTo>
                <a:cubicBezTo>
                  <a:pt x="7404" y="5627"/>
                  <a:pt x="7849" y="5366"/>
                  <a:pt x="8359" y="5159"/>
                </a:cubicBezTo>
                <a:cubicBezTo>
                  <a:pt x="8502" y="5101"/>
                  <a:pt x="8815" y="4906"/>
                  <a:pt x="8731" y="5035"/>
                </a:cubicBezTo>
                <a:cubicBezTo>
                  <a:pt x="8715" y="5052"/>
                  <a:pt x="8698" y="5068"/>
                  <a:pt x="8682" y="5085"/>
                </a:cubicBezTo>
              </a:path>
              <a:path w="23169" h="5780">
                <a:moveTo>
                  <a:pt x="9426" y="5829"/>
                </a:moveTo>
                <a:cubicBezTo>
                  <a:pt x="9630" y="5785"/>
                  <a:pt x="9831" y="5695"/>
                  <a:pt x="10021" y="5606"/>
                </a:cubicBezTo>
                <a:cubicBezTo>
                  <a:pt x="10385" y="5435"/>
                  <a:pt x="10752" y="5266"/>
                  <a:pt x="11112" y="5085"/>
                </a:cubicBezTo>
              </a:path>
              <a:path w="23169" h="5780">
                <a:moveTo>
                  <a:pt x="11683" y="5829"/>
                </a:moveTo>
                <a:cubicBezTo>
                  <a:pt x="12040" y="5665"/>
                  <a:pt x="12405" y="5479"/>
                  <a:pt x="12774" y="5333"/>
                </a:cubicBezTo>
                <a:cubicBezTo>
                  <a:pt x="13218" y="5157"/>
                  <a:pt x="13745" y="4910"/>
                  <a:pt x="14213" y="4812"/>
                </a:cubicBezTo>
                <a:cubicBezTo>
                  <a:pt x="14213" y="4820"/>
                  <a:pt x="14213" y="4829"/>
                  <a:pt x="14213" y="4837"/>
                </a:cubicBezTo>
              </a:path>
              <a:path w="23169" h="5780">
                <a:moveTo>
                  <a:pt x="14486" y="5730"/>
                </a:moveTo>
                <a:cubicBezTo>
                  <a:pt x="14771" y="5635"/>
                  <a:pt x="15046" y="5489"/>
                  <a:pt x="15329" y="5383"/>
                </a:cubicBezTo>
                <a:cubicBezTo>
                  <a:pt x="15832" y="5195"/>
                  <a:pt x="16331" y="5015"/>
                  <a:pt x="16818" y="4787"/>
                </a:cubicBezTo>
                <a:cubicBezTo>
                  <a:pt x="16912" y="4743"/>
                  <a:pt x="16852" y="4782"/>
                  <a:pt x="16842" y="4837"/>
                </a:cubicBezTo>
              </a:path>
              <a:path w="23169" h="5780">
                <a:moveTo>
                  <a:pt x="16818" y="5904"/>
                </a:moveTo>
                <a:cubicBezTo>
                  <a:pt x="17063" y="5708"/>
                  <a:pt x="17347" y="5520"/>
                  <a:pt x="17636" y="5358"/>
                </a:cubicBezTo>
                <a:cubicBezTo>
                  <a:pt x="17813" y="5259"/>
                  <a:pt x="18129" y="5065"/>
                  <a:pt x="18331" y="5011"/>
                </a:cubicBezTo>
                <a:cubicBezTo>
                  <a:pt x="18331" y="5019"/>
                  <a:pt x="18331" y="5027"/>
                  <a:pt x="18331" y="5035"/>
                </a:cubicBezTo>
              </a:path>
              <a:path w="23169" h="5780">
                <a:moveTo>
                  <a:pt x="18728" y="5804"/>
                </a:moveTo>
                <a:cubicBezTo>
                  <a:pt x="19072" y="5612"/>
                  <a:pt x="19392" y="5476"/>
                  <a:pt x="19769" y="5333"/>
                </a:cubicBezTo>
                <a:cubicBezTo>
                  <a:pt x="20085" y="5213"/>
                  <a:pt x="20426" y="5104"/>
                  <a:pt x="20737" y="4986"/>
                </a:cubicBezTo>
              </a:path>
              <a:path w="23169" h="5780">
                <a:moveTo>
                  <a:pt x="21258" y="5581"/>
                </a:moveTo>
                <a:cubicBezTo>
                  <a:pt x="21578" y="5523"/>
                  <a:pt x="21863" y="5435"/>
                  <a:pt x="22175" y="5333"/>
                </a:cubicBezTo>
                <a:cubicBezTo>
                  <a:pt x="22539" y="5214"/>
                  <a:pt x="22909" y="5095"/>
                  <a:pt x="23267" y="4961"/>
                </a:cubicBezTo>
              </a:path>
              <a:path w="23169" h="5780">
                <a:moveTo>
                  <a:pt x="2332" y="7268"/>
                </a:moveTo>
                <a:cubicBezTo>
                  <a:pt x="2471" y="7168"/>
                  <a:pt x="2702" y="7066"/>
                  <a:pt x="2877" y="6995"/>
                </a:cubicBezTo>
                <a:cubicBezTo>
                  <a:pt x="3391" y="6788"/>
                  <a:pt x="3889" y="6563"/>
                  <a:pt x="4390" y="6325"/>
                </a:cubicBezTo>
                <a:cubicBezTo>
                  <a:pt x="4464" y="6289"/>
                  <a:pt x="4468" y="6272"/>
                  <a:pt x="4514" y="6276"/>
                </a:cubicBezTo>
              </a:path>
              <a:path w="23169" h="5780">
                <a:moveTo>
                  <a:pt x="4936" y="7317"/>
                </a:moveTo>
                <a:cubicBezTo>
                  <a:pt x="5069" y="7106"/>
                  <a:pt x="5288" y="6914"/>
                  <a:pt x="5482" y="6747"/>
                </a:cubicBezTo>
                <a:cubicBezTo>
                  <a:pt x="5812" y="6463"/>
                  <a:pt x="6185" y="6267"/>
                  <a:pt x="6524" y="6003"/>
                </a:cubicBezTo>
              </a:path>
              <a:path w="23169" h="5780">
                <a:moveTo>
                  <a:pt x="6772" y="7218"/>
                </a:moveTo>
                <a:cubicBezTo>
                  <a:pt x="7029" y="6883"/>
                  <a:pt x="7423" y="6600"/>
                  <a:pt x="7764" y="6350"/>
                </a:cubicBezTo>
                <a:cubicBezTo>
                  <a:pt x="7840" y="6295"/>
                  <a:pt x="8247" y="6032"/>
                  <a:pt x="8334" y="6003"/>
                </a:cubicBezTo>
              </a:path>
              <a:path w="23169" h="5780">
                <a:moveTo>
                  <a:pt x="8706" y="7342"/>
                </a:moveTo>
                <a:cubicBezTo>
                  <a:pt x="9030" y="7059"/>
                  <a:pt x="9341" y="6744"/>
                  <a:pt x="9674" y="6474"/>
                </a:cubicBezTo>
                <a:cubicBezTo>
                  <a:pt x="9778" y="6390"/>
                  <a:pt x="10061" y="6198"/>
                  <a:pt x="10195" y="6102"/>
                </a:cubicBezTo>
              </a:path>
              <a:path w="23169" h="5780">
                <a:moveTo>
                  <a:pt x="10492" y="7144"/>
                </a:moveTo>
                <a:cubicBezTo>
                  <a:pt x="10815" y="6838"/>
                  <a:pt x="11170" y="6557"/>
                  <a:pt x="11534" y="6300"/>
                </a:cubicBezTo>
                <a:cubicBezTo>
                  <a:pt x="11675" y="6201"/>
                  <a:pt x="11820" y="5922"/>
                  <a:pt x="11956" y="6028"/>
                </a:cubicBezTo>
                <a:cubicBezTo>
                  <a:pt x="11972" y="6061"/>
                  <a:pt x="11989" y="6094"/>
                  <a:pt x="12005" y="6127"/>
                </a:cubicBezTo>
              </a:path>
              <a:path w="23169" h="5780">
                <a:moveTo>
                  <a:pt x="12105" y="7169"/>
                </a:moveTo>
                <a:cubicBezTo>
                  <a:pt x="12255" y="7139"/>
                  <a:pt x="12462" y="7010"/>
                  <a:pt x="12626" y="6871"/>
                </a:cubicBezTo>
                <a:cubicBezTo>
                  <a:pt x="12880" y="6655"/>
                  <a:pt x="13159" y="6153"/>
                  <a:pt x="13444" y="6003"/>
                </a:cubicBezTo>
                <a:cubicBezTo>
                  <a:pt x="13452" y="6011"/>
                  <a:pt x="13461" y="6020"/>
                  <a:pt x="13469" y="6028"/>
                </a:cubicBezTo>
              </a:path>
              <a:path w="23169" h="5780">
                <a:moveTo>
                  <a:pt x="13395" y="7342"/>
                </a:moveTo>
                <a:cubicBezTo>
                  <a:pt x="13718" y="7045"/>
                  <a:pt x="14059" y="6766"/>
                  <a:pt x="14387" y="6474"/>
                </a:cubicBezTo>
                <a:cubicBezTo>
                  <a:pt x="14467" y="6403"/>
                  <a:pt x="15092" y="5761"/>
                  <a:pt x="15230" y="5755"/>
                </a:cubicBezTo>
                <a:cubicBezTo>
                  <a:pt x="15230" y="5780"/>
                  <a:pt x="15230" y="5804"/>
                  <a:pt x="15230" y="58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0800" y="1330200"/>
            <a:ext cx="6840360" cy="3724560"/>
          </a:xfrm>
          <a:custGeom>
            <a:avLst/>
            <a:gdLst/>
            <a:ahLst/>
            <a:rect l="l" t="t" r="r" b="b"/>
            <a:pathLst>
              <a:path w="19001" h="10344">
                <a:moveTo>
                  <a:pt x="4663" y="13990"/>
                </a:moveTo>
                <a:cubicBezTo>
                  <a:pt x="4555" y="14012"/>
                  <a:pt x="4529" y="14015"/>
                  <a:pt x="4465" y="14039"/>
                </a:cubicBezTo>
                <a:cubicBezTo>
                  <a:pt x="4595" y="14025"/>
                  <a:pt x="4703" y="13999"/>
                  <a:pt x="4837" y="13990"/>
                </a:cubicBezTo>
                <a:cubicBezTo>
                  <a:pt x="5301" y="13960"/>
                  <a:pt x="5763" y="13956"/>
                  <a:pt x="6226" y="13891"/>
                </a:cubicBezTo>
                <a:cubicBezTo>
                  <a:pt x="6678" y="13827"/>
                  <a:pt x="7135" y="13755"/>
                  <a:pt x="7590" y="13717"/>
                </a:cubicBezTo>
                <a:cubicBezTo>
                  <a:pt x="7901" y="13691"/>
                  <a:pt x="8221" y="13685"/>
                  <a:pt x="8533" y="13667"/>
                </a:cubicBezTo>
                <a:cubicBezTo>
                  <a:pt x="8856" y="13649"/>
                  <a:pt x="9176" y="13625"/>
                  <a:pt x="9500" y="13618"/>
                </a:cubicBezTo>
                <a:cubicBezTo>
                  <a:pt x="10245" y="13601"/>
                  <a:pt x="10988" y="13593"/>
                  <a:pt x="11733" y="13593"/>
                </a:cubicBezTo>
                <a:cubicBezTo>
                  <a:pt x="12279" y="13593"/>
                  <a:pt x="12823" y="13568"/>
                  <a:pt x="13370" y="13568"/>
                </a:cubicBezTo>
                <a:cubicBezTo>
                  <a:pt x="14390" y="13568"/>
                  <a:pt x="15404" y="13621"/>
                  <a:pt x="16421" y="13692"/>
                </a:cubicBezTo>
                <a:cubicBezTo>
                  <a:pt x="16794" y="13718"/>
                  <a:pt x="17164" y="13735"/>
                  <a:pt x="17537" y="13767"/>
                </a:cubicBezTo>
                <a:cubicBezTo>
                  <a:pt x="17934" y="13801"/>
                  <a:pt x="18331" y="13794"/>
                  <a:pt x="18728" y="13841"/>
                </a:cubicBezTo>
                <a:cubicBezTo>
                  <a:pt x="19165" y="13893"/>
                  <a:pt x="19603" y="13950"/>
                  <a:pt x="20042" y="13965"/>
                </a:cubicBezTo>
                <a:cubicBezTo>
                  <a:pt x="20225" y="13971"/>
                  <a:pt x="20407" y="13992"/>
                  <a:pt x="20588" y="13990"/>
                </a:cubicBezTo>
                <a:cubicBezTo>
                  <a:pt x="20666" y="13989"/>
                  <a:pt x="20733" y="13970"/>
                  <a:pt x="20811" y="13965"/>
                </a:cubicBezTo>
                <a:cubicBezTo>
                  <a:pt x="20897" y="13959"/>
                  <a:pt x="20977" y="13944"/>
                  <a:pt x="21059" y="13940"/>
                </a:cubicBezTo>
                <a:cubicBezTo>
                  <a:pt x="21133" y="13937"/>
                  <a:pt x="21208" y="13942"/>
                  <a:pt x="21282" y="13940"/>
                </a:cubicBezTo>
              </a:path>
              <a:path w="19001" h="10344">
                <a:moveTo>
                  <a:pt x="4192" y="12353"/>
                </a:moveTo>
                <a:lnTo>
                  <a:pt x="4192" y="12353"/>
                </a:lnTo>
              </a:path>
              <a:path w="19001" h="10344">
                <a:moveTo>
                  <a:pt x="9847" y="11311"/>
                </a:moveTo>
                <a:cubicBezTo>
                  <a:pt x="9847" y="11272"/>
                  <a:pt x="9827" y="11663"/>
                  <a:pt x="9823" y="11708"/>
                </a:cubicBezTo>
                <a:cubicBezTo>
                  <a:pt x="9814" y="11811"/>
                  <a:pt x="9798" y="11883"/>
                  <a:pt x="9798" y="11981"/>
                </a:cubicBezTo>
              </a:path>
              <a:path w="19001" h="10344">
                <a:moveTo>
                  <a:pt x="2282" y="4862"/>
                </a:moveTo>
                <a:cubicBezTo>
                  <a:pt x="2432" y="4722"/>
                  <a:pt x="2682" y="4489"/>
                  <a:pt x="2853" y="4366"/>
                </a:cubicBezTo>
                <a:cubicBezTo>
                  <a:pt x="3184" y="4128"/>
                  <a:pt x="3564" y="3892"/>
                  <a:pt x="3919" y="3696"/>
                </a:cubicBezTo>
                <a:cubicBezTo>
                  <a:pt x="3927" y="3696"/>
                  <a:pt x="3936" y="3696"/>
                  <a:pt x="3944" y="3696"/>
                </a:cubicBezTo>
              </a:path>
              <a:path w="19001" h="10344">
                <a:moveTo>
                  <a:pt x="2803" y="5184"/>
                </a:moveTo>
                <a:cubicBezTo>
                  <a:pt x="2748" y="5233"/>
                  <a:pt x="2656" y="5305"/>
                  <a:pt x="2580" y="5358"/>
                </a:cubicBezTo>
                <a:cubicBezTo>
                  <a:pt x="2604" y="5349"/>
                  <a:pt x="2977" y="5101"/>
                  <a:pt x="3001" y="5085"/>
                </a:cubicBezTo>
                <a:cubicBezTo>
                  <a:pt x="3318" y="4874"/>
                  <a:pt x="3669" y="4698"/>
                  <a:pt x="3969" y="44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00120" y="3017880"/>
            <a:ext cx="277920" cy="36360"/>
          </a:xfrm>
          <a:custGeom>
            <a:avLst/>
            <a:gdLst/>
            <a:ahLst/>
            <a:rect l="l" t="t" r="r" b="b"/>
            <a:pathLst>
              <a:path w="770" h="100">
                <a:moveTo>
                  <a:pt x="4167" y="8483"/>
                </a:moveTo>
                <a:cubicBezTo>
                  <a:pt x="4424" y="8453"/>
                  <a:pt x="4681" y="8429"/>
                  <a:pt x="4936" y="83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82840" y="2786040"/>
            <a:ext cx="1446120" cy="285840"/>
          </a:xfrm>
          <a:custGeom>
            <a:avLst/>
            <a:gdLst/>
            <a:ahLst/>
            <a:rect l="l" t="t" r="r" b="b"/>
            <a:pathLst>
              <a:path w="4019" h="795">
                <a:moveTo>
                  <a:pt x="4539" y="8210"/>
                </a:moveTo>
                <a:cubicBezTo>
                  <a:pt x="4539" y="8161"/>
                  <a:pt x="4539" y="8111"/>
                  <a:pt x="4539" y="8062"/>
                </a:cubicBezTo>
                <a:cubicBezTo>
                  <a:pt x="4539" y="7971"/>
                  <a:pt x="4539" y="8194"/>
                  <a:pt x="4539" y="8285"/>
                </a:cubicBezTo>
                <a:cubicBezTo>
                  <a:pt x="4539" y="8335"/>
                  <a:pt x="4539" y="8384"/>
                  <a:pt x="4539" y="8434"/>
                </a:cubicBezTo>
              </a:path>
              <a:path w="4019" h="795">
                <a:moveTo>
                  <a:pt x="4118" y="8012"/>
                </a:moveTo>
                <a:cubicBezTo>
                  <a:pt x="4355" y="7985"/>
                  <a:pt x="4602" y="7977"/>
                  <a:pt x="4837" y="7938"/>
                </a:cubicBezTo>
                <a:cubicBezTo>
                  <a:pt x="5007" y="7910"/>
                  <a:pt x="5074" y="7827"/>
                  <a:pt x="5035" y="7962"/>
                </a:cubicBezTo>
              </a:path>
              <a:path w="4019" h="795">
                <a:moveTo>
                  <a:pt x="5085" y="8235"/>
                </a:moveTo>
                <a:cubicBezTo>
                  <a:pt x="5058" y="8317"/>
                  <a:pt x="5051" y="8350"/>
                  <a:pt x="5085" y="8409"/>
                </a:cubicBezTo>
                <a:cubicBezTo>
                  <a:pt x="5085" y="8500"/>
                  <a:pt x="5073" y="8318"/>
                  <a:pt x="5110" y="8235"/>
                </a:cubicBezTo>
                <a:cubicBezTo>
                  <a:pt x="5198" y="8038"/>
                  <a:pt x="5302" y="8130"/>
                  <a:pt x="5358" y="8285"/>
                </a:cubicBezTo>
                <a:cubicBezTo>
                  <a:pt x="5382" y="8353"/>
                  <a:pt x="5347" y="8562"/>
                  <a:pt x="5407" y="8458"/>
                </a:cubicBezTo>
              </a:path>
              <a:path w="4019" h="795">
                <a:moveTo>
                  <a:pt x="5631" y="7863"/>
                </a:moveTo>
                <a:cubicBezTo>
                  <a:pt x="5631" y="8056"/>
                  <a:pt x="5641" y="8243"/>
                  <a:pt x="5655" y="8434"/>
                </a:cubicBezTo>
                <a:cubicBezTo>
                  <a:pt x="5655" y="8442"/>
                  <a:pt x="5655" y="8450"/>
                  <a:pt x="5655" y="8458"/>
                </a:cubicBezTo>
              </a:path>
              <a:path w="4019" h="795">
                <a:moveTo>
                  <a:pt x="5457" y="8210"/>
                </a:moveTo>
                <a:cubicBezTo>
                  <a:pt x="5662" y="8203"/>
                  <a:pt x="5832" y="8189"/>
                  <a:pt x="6028" y="8235"/>
                </a:cubicBezTo>
                <a:cubicBezTo>
                  <a:pt x="6068" y="8244"/>
                  <a:pt x="6068" y="8238"/>
                  <a:pt x="6077" y="8210"/>
                </a:cubicBezTo>
                <a:cubicBezTo>
                  <a:pt x="6033" y="8144"/>
                  <a:pt x="6013" y="8034"/>
                  <a:pt x="5904" y="8111"/>
                </a:cubicBezTo>
                <a:cubicBezTo>
                  <a:pt x="5761" y="8212"/>
                  <a:pt x="5696" y="8527"/>
                  <a:pt x="5953" y="8508"/>
                </a:cubicBezTo>
                <a:cubicBezTo>
                  <a:pt x="6100" y="8497"/>
                  <a:pt x="6391" y="8213"/>
                  <a:pt x="6251" y="8260"/>
                </a:cubicBezTo>
                <a:cubicBezTo>
                  <a:pt x="6192" y="8280"/>
                  <a:pt x="6226" y="8393"/>
                  <a:pt x="6226" y="8458"/>
                </a:cubicBezTo>
                <a:cubicBezTo>
                  <a:pt x="6240" y="8337"/>
                  <a:pt x="6250" y="8220"/>
                  <a:pt x="6375" y="8161"/>
                </a:cubicBezTo>
                <a:cubicBezTo>
                  <a:pt x="6482" y="8139"/>
                  <a:pt x="6506" y="8131"/>
                  <a:pt x="6573" y="8136"/>
                </a:cubicBezTo>
              </a:path>
              <a:path w="4019" h="795">
                <a:moveTo>
                  <a:pt x="6672" y="8186"/>
                </a:moveTo>
                <a:cubicBezTo>
                  <a:pt x="6678" y="8309"/>
                  <a:pt x="6690" y="8413"/>
                  <a:pt x="6722" y="8533"/>
                </a:cubicBezTo>
                <a:cubicBezTo>
                  <a:pt x="6810" y="8402"/>
                  <a:pt x="6843" y="8229"/>
                  <a:pt x="6921" y="8086"/>
                </a:cubicBezTo>
                <a:cubicBezTo>
                  <a:pt x="6943" y="8064"/>
                  <a:pt x="6948" y="8056"/>
                  <a:pt x="6970" y="8062"/>
                </a:cubicBezTo>
              </a:path>
              <a:path w="4019" h="795">
                <a:moveTo>
                  <a:pt x="7268" y="8161"/>
                </a:moveTo>
                <a:cubicBezTo>
                  <a:pt x="7115" y="8225"/>
                  <a:pt x="6997" y="8269"/>
                  <a:pt x="7045" y="8458"/>
                </a:cubicBezTo>
                <a:cubicBezTo>
                  <a:pt x="7163" y="8362"/>
                  <a:pt x="7218" y="8278"/>
                  <a:pt x="7293" y="8136"/>
                </a:cubicBezTo>
                <a:cubicBezTo>
                  <a:pt x="7293" y="8189"/>
                  <a:pt x="7277" y="8489"/>
                  <a:pt x="7417" y="8434"/>
                </a:cubicBezTo>
                <a:cubicBezTo>
                  <a:pt x="7450" y="8401"/>
                  <a:pt x="7483" y="8367"/>
                  <a:pt x="7516" y="8334"/>
                </a:cubicBezTo>
              </a:path>
              <a:path w="4019" h="795">
                <a:moveTo>
                  <a:pt x="7615" y="7739"/>
                </a:moveTo>
                <a:cubicBezTo>
                  <a:pt x="7606" y="7984"/>
                  <a:pt x="7593" y="8215"/>
                  <a:pt x="7615" y="8458"/>
                </a:cubicBezTo>
                <a:cubicBezTo>
                  <a:pt x="7615" y="8526"/>
                  <a:pt x="7628" y="8530"/>
                  <a:pt x="7689" y="8434"/>
                </a:cubicBezTo>
              </a:path>
              <a:path w="4019" h="795">
                <a:moveTo>
                  <a:pt x="8111" y="8111"/>
                </a:moveTo>
                <a:cubicBezTo>
                  <a:pt x="8019" y="8111"/>
                  <a:pt x="7993" y="8109"/>
                  <a:pt x="7938" y="8136"/>
                </a:cubicBezTo>
                <a:cubicBezTo>
                  <a:pt x="8024" y="8236"/>
                  <a:pt x="8102" y="8249"/>
                  <a:pt x="8136" y="8384"/>
                </a:cubicBezTo>
                <a:cubicBezTo>
                  <a:pt x="7989" y="8466"/>
                  <a:pt x="7969" y="8485"/>
                  <a:pt x="7813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760" y="2938320"/>
            <a:ext cx="7286400" cy="2705400"/>
          </a:xfrm>
          <a:custGeom>
            <a:avLst/>
            <a:gdLst/>
            <a:ahLst/>
            <a:rect l="l" t="t" r="r" b="b"/>
            <a:pathLst>
              <a:path w="20241" h="7517">
                <a:moveTo>
                  <a:pt x="3746" y="8632"/>
                </a:moveTo>
                <a:cubicBezTo>
                  <a:pt x="3767" y="8776"/>
                  <a:pt x="3802" y="8929"/>
                  <a:pt x="3820" y="9079"/>
                </a:cubicBezTo>
                <a:cubicBezTo>
                  <a:pt x="3894" y="9706"/>
                  <a:pt x="3953" y="10336"/>
                  <a:pt x="4018" y="10964"/>
                </a:cubicBezTo>
                <a:cubicBezTo>
                  <a:pt x="4069" y="11452"/>
                  <a:pt x="4112" y="11940"/>
                  <a:pt x="4167" y="12427"/>
                </a:cubicBezTo>
                <a:cubicBezTo>
                  <a:pt x="4245" y="13113"/>
                  <a:pt x="4428" y="13775"/>
                  <a:pt x="4514" y="14461"/>
                </a:cubicBezTo>
                <a:cubicBezTo>
                  <a:pt x="4556" y="14796"/>
                  <a:pt x="4569" y="15124"/>
                  <a:pt x="4539" y="15453"/>
                </a:cubicBezTo>
                <a:cubicBezTo>
                  <a:pt x="4533" y="15520"/>
                  <a:pt x="4497" y="15583"/>
                  <a:pt x="4490" y="15652"/>
                </a:cubicBezTo>
                <a:cubicBezTo>
                  <a:pt x="4490" y="15660"/>
                  <a:pt x="4490" y="15669"/>
                  <a:pt x="4490" y="15677"/>
                </a:cubicBezTo>
                <a:cubicBezTo>
                  <a:pt x="4592" y="15656"/>
                  <a:pt x="4680" y="15597"/>
                  <a:pt x="4787" y="15577"/>
                </a:cubicBezTo>
                <a:cubicBezTo>
                  <a:pt x="5566" y="15431"/>
                  <a:pt x="6404" y="15493"/>
                  <a:pt x="7193" y="15429"/>
                </a:cubicBezTo>
                <a:cubicBezTo>
                  <a:pt x="8507" y="15322"/>
                  <a:pt x="9798" y="15420"/>
                  <a:pt x="11112" y="15429"/>
                </a:cubicBezTo>
                <a:cubicBezTo>
                  <a:pt x="11716" y="15433"/>
                  <a:pt x="12320" y="15447"/>
                  <a:pt x="12923" y="15478"/>
                </a:cubicBezTo>
                <a:cubicBezTo>
                  <a:pt x="13663" y="15517"/>
                  <a:pt x="14388" y="15577"/>
                  <a:pt x="15131" y="15577"/>
                </a:cubicBezTo>
                <a:cubicBezTo>
                  <a:pt x="16998" y="15577"/>
                  <a:pt x="18871" y="15440"/>
                  <a:pt x="20737" y="15404"/>
                </a:cubicBezTo>
                <a:cubicBezTo>
                  <a:pt x="20844" y="15402"/>
                  <a:pt x="20952" y="15407"/>
                  <a:pt x="21059" y="15404"/>
                </a:cubicBezTo>
                <a:cubicBezTo>
                  <a:pt x="21075" y="15231"/>
                  <a:pt x="21096" y="15058"/>
                  <a:pt x="21109" y="14883"/>
                </a:cubicBezTo>
                <a:cubicBezTo>
                  <a:pt x="21168" y="14106"/>
                  <a:pt x="21178" y="13329"/>
                  <a:pt x="21208" y="12551"/>
                </a:cubicBezTo>
                <a:cubicBezTo>
                  <a:pt x="21248" y="11511"/>
                  <a:pt x="21210" y="10464"/>
                  <a:pt x="21282" y="9426"/>
                </a:cubicBezTo>
                <a:cubicBezTo>
                  <a:pt x="21301" y="9147"/>
                  <a:pt x="21318" y="8855"/>
                  <a:pt x="21357" y="8582"/>
                </a:cubicBezTo>
                <a:cubicBezTo>
                  <a:pt x="21374" y="8465"/>
                  <a:pt x="21412" y="8342"/>
                  <a:pt x="21431" y="8235"/>
                </a:cubicBezTo>
                <a:cubicBezTo>
                  <a:pt x="21268" y="8225"/>
                  <a:pt x="21099" y="8224"/>
                  <a:pt x="20935" y="8210"/>
                </a:cubicBezTo>
                <a:cubicBezTo>
                  <a:pt x="19588" y="8099"/>
                  <a:pt x="18202" y="8212"/>
                  <a:pt x="16867" y="8409"/>
                </a:cubicBezTo>
                <a:cubicBezTo>
                  <a:pt x="16049" y="8530"/>
                  <a:pt x="15217" y="8699"/>
                  <a:pt x="14387" y="8682"/>
                </a:cubicBezTo>
                <a:cubicBezTo>
                  <a:pt x="12913" y="8651"/>
                  <a:pt x="11447" y="8765"/>
                  <a:pt x="9971" y="8756"/>
                </a:cubicBezTo>
                <a:cubicBezTo>
                  <a:pt x="9104" y="8750"/>
                  <a:pt x="8232" y="8744"/>
                  <a:pt x="7367" y="8756"/>
                </a:cubicBezTo>
                <a:cubicBezTo>
                  <a:pt x="7027" y="8761"/>
                  <a:pt x="6689" y="8816"/>
                  <a:pt x="6350" y="8830"/>
                </a:cubicBezTo>
                <a:cubicBezTo>
                  <a:pt x="5859" y="8850"/>
                  <a:pt x="5373" y="8807"/>
                  <a:pt x="4887" y="8781"/>
                </a:cubicBezTo>
                <a:cubicBezTo>
                  <a:pt x="4620" y="8767"/>
                  <a:pt x="4361" y="8760"/>
                  <a:pt x="4093" y="8781"/>
                </a:cubicBezTo>
                <a:cubicBezTo>
                  <a:pt x="3976" y="8790"/>
                  <a:pt x="3862" y="8821"/>
                  <a:pt x="3746" y="8830"/>
                </a:cubicBezTo>
              </a:path>
              <a:path w="20241" h="7517">
                <a:moveTo>
                  <a:pt x="9178" y="8657"/>
                </a:moveTo>
                <a:cubicBezTo>
                  <a:pt x="9184" y="8720"/>
                  <a:pt x="9196" y="8931"/>
                  <a:pt x="9203" y="9029"/>
                </a:cubicBezTo>
                <a:cubicBezTo>
                  <a:pt x="9234" y="9454"/>
                  <a:pt x="9295" y="9873"/>
                  <a:pt x="9351" y="10294"/>
                </a:cubicBezTo>
                <a:cubicBezTo>
                  <a:pt x="9474" y="11218"/>
                  <a:pt x="9549" y="12146"/>
                  <a:pt x="9649" y="13072"/>
                </a:cubicBezTo>
                <a:cubicBezTo>
                  <a:pt x="9695" y="13498"/>
                  <a:pt x="9765" y="13916"/>
                  <a:pt x="9847" y="14337"/>
                </a:cubicBezTo>
                <a:cubicBezTo>
                  <a:pt x="9876" y="14484"/>
                  <a:pt x="9929" y="14637"/>
                  <a:pt x="9947" y="14784"/>
                </a:cubicBezTo>
                <a:cubicBezTo>
                  <a:pt x="9963" y="14920"/>
                  <a:pt x="9975" y="15103"/>
                  <a:pt x="9971" y="15230"/>
                </a:cubicBezTo>
                <a:cubicBezTo>
                  <a:pt x="9969" y="15295"/>
                  <a:pt x="9952" y="15318"/>
                  <a:pt x="9947" y="15379"/>
                </a:cubicBezTo>
                <a:cubicBezTo>
                  <a:pt x="9945" y="15412"/>
                  <a:pt x="9947" y="15346"/>
                  <a:pt x="9947" y="15379"/>
                </a:cubicBezTo>
              </a:path>
              <a:path w="20241" h="7517">
                <a:moveTo>
                  <a:pt x="1290" y="11708"/>
                </a:moveTo>
                <a:cubicBezTo>
                  <a:pt x="1290" y="11700"/>
                  <a:pt x="1290" y="11691"/>
                  <a:pt x="1290" y="11683"/>
                </a:cubicBezTo>
                <a:cubicBezTo>
                  <a:pt x="1261" y="11704"/>
                  <a:pt x="1209" y="11770"/>
                  <a:pt x="1191" y="11807"/>
                </a:cubicBezTo>
                <a:cubicBezTo>
                  <a:pt x="1252" y="11868"/>
                  <a:pt x="1328" y="11868"/>
                  <a:pt x="1389" y="11807"/>
                </a:cubicBezTo>
                <a:cubicBezTo>
                  <a:pt x="1397" y="11799"/>
                  <a:pt x="1406" y="11790"/>
                  <a:pt x="1414" y="11782"/>
                </a:cubicBezTo>
              </a:path>
              <a:path w="20241" h="7517">
                <a:moveTo>
                  <a:pt x="1364" y="11534"/>
                </a:moveTo>
                <a:cubicBezTo>
                  <a:pt x="1347" y="11700"/>
                  <a:pt x="1311" y="11864"/>
                  <a:pt x="1290" y="12030"/>
                </a:cubicBezTo>
                <a:cubicBezTo>
                  <a:pt x="1290" y="12047"/>
                  <a:pt x="1290" y="12063"/>
                  <a:pt x="1290" y="12080"/>
                </a:cubicBezTo>
              </a:path>
              <a:path w="20241" h="7517">
                <a:moveTo>
                  <a:pt x="1786" y="11633"/>
                </a:moveTo>
                <a:cubicBezTo>
                  <a:pt x="1847" y="11554"/>
                  <a:pt x="1751" y="11555"/>
                  <a:pt x="1687" y="11584"/>
                </a:cubicBezTo>
                <a:cubicBezTo>
                  <a:pt x="1642" y="11605"/>
                  <a:pt x="1511" y="11753"/>
                  <a:pt x="1637" y="11733"/>
                </a:cubicBezTo>
                <a:cubicBezTo>
                  <a:pt x="1743" y="11706"/>
                  <a:pt x="1783" y="11693"/>
                  <a:pt x="1836" y="11633"/>
                </a:cubicBezTo>
                <a:cubicBezTo>
                  <a:pt x="1836" y="11625"/>
                  <a:pt x="1836" y="11617"/>
                  <a:pt x="1836" y="11609"/>
                </a:cubicBezTo>
                <a:cubicBezTo>
                  <a:pt x="1836" y="11710"/>
                  <a:pt x="1830" y="11834"/>
                  <a:pt x="1811" y="11931"/>
                </a:cubicBezTo>
                <a:cubicBezTo>
                  <a:pt x="1791" y="11972"/>
                  <a:pt x="1772" y="11988"/>
                  <a:pt x="1811" y="11981"/>
                </a:cubicBezTo>
              </a:path>
              <a:path w="20241" h="7517">
                <a:moveTo>
                  <a:pt x="2084" y="11584"/>
                </a:moveTo>
                <a:cubicBezTo>
                  <a:pt x="2098" y="11629"/>
                  <a:pt x="2172" y="11641"/>
                  <a:pt x="2208" y="11683"/>
                </a:cubicBezTo>
                <a:cubicBezTo>
                  <a:pt x="2251" y="11733"/>
                  <a:pt x="2248" y="11827"/>
                  <a:pt x="2183" y="11857"/>
                </a:cubicBezTo>
                <a:cubicBezTo>
                  <a:pt x="2122" y="11876"/>
                  <a:pt x="2108" y="11895"/>
                  <a:pt x="2084" y="11857"/>
                </a:cubicBezTo>
              </a:path>
              <a:path w="20241" h="7517">
                <a:moveTo>
                  <a:pt x="2133" y="11534"/>
                </a:moveTo>
                <a:cubicBezTo>
                  <a:pt x="2209" y="11492"/>
                  <a:pt x="2270" y="11450"/>
                  <a:pt x="2356" y="11435"/>
                </a:cubicBezTo>
              </a:path>
              <a:path w="20241" h="7517">
                <a:moveTo>
                  <a:pt x="4341" y="11708"/>
                </a:moveTo>
                <a:cubicBezTo>
                  <a:pt x="4420" y="11708"/>
                  <a:pt x="4514" y="11694"/>
                  <a:pt x="4514" y="11807"/>
                </a:cubicBezTo>
                <a:cubicBezTo>
                  <a:pt x="4514" y="11915"/>
                  <a:pt x="4423" y="11997"/>
                  <a:pt x="4366" y="12080"/>
                </a:cubicBezTo>
                <a:cubicBezTo>
                  <a:pt x="4509" y="12071"/>
                  <a:pt x="4614" y="12057"/>
                  <a:pt x="4738" y="11981"/>
                </a:cubicBezTo>
              </a:path>
              <a:path w="20241" h="7517">
                <a:moveTo>
                  <a:pt x="4887" y="11733"/>
                </a:moveTo>
                <a:cubicBezTo>
                  <a:pt x="4763" y="11810"/>
                  <a:pt x="4722" y="11874"/>
                  <a:pt x="4787" y="12005"/>
                </a:cubicBezTo>
                <a:cubicBezTo>
                  <a:pt x="4875" y="12019"/>
                  <a:pt x="5148" y="11981"/>
                  <a:pt x="5035" y="11807"/>
                </a:cubicBezTo>
                <a:cubicBezTo>
                  <a:pt x="4959" y="11768"/>
                  <a:pt x="4944" y="11769"/>
                  <a:pt x="4911" y="11733"/>
                </a:cubicBezTo>
              </a:path>
              <a:path w="20241" h="7517">
                <a:moveTo>
                  <a:pt x="5283" y="11609"/>
                </a:moveTo>
                <a:cubicBezTo>
                  <a:pt x="5291" y="11747"/>
                  <a:pt x="5321" y="11854"/>
                  <a:pt x="5358" y="11981"/>
                </a:cubicBezTo>
              </a:path>
              <a:path w="20241" h="7517">
                <a:moveTo>
                  <a:pt x="5879" y="11807"/>
                </a:moveTo>
                <a:cubicBezTo>
                  <a:pt x="5978" y="11784"/>
                  <a:pt x="6074" y="11773"/>
                  <a:pt x="6176" y="11757"/>
                </a:cubicBezTo>
              </a:path>
              <a:path w="20241" h="7517">
                <a:moveTo>
                  <a:pt x="6350" y="11559"/>
                </a:moveTo>
                <a:cubicBezTo>
                  <a:pt x="6417" y="11559"/>
                  <a:pt x="6673" y="11537"/>
                  <a:pt x="6697" y="11633"/>
                </a:cubicBezTo>
                <a:cubicBezTo>
                  <a:pt x="6671" y="11711"/>
                  <a:pt x="6660" y="11738"/>
                  <a:pt x="6598" y="11757"/>
                </a:cubicBezTo>
                <a:cubicBezTo>
                  <a:pt x="6650" y="11796"/>
                  <a:pt x="6757" y="11777"/>
                  <a:pt x="6796" y="11832"/>
                </a:cubicBezTo>
                <a:cubicBezTo>
                  <a:pt x="6881" y="11951"/>
                  <a:pt x="6575" y="11991"/>
                  <a:pt x="6524" y="11981"/>
                </a:cubicBezTo>
                <a:cubicBezTo>
                  <a:pt x="6516" y="11973"/>
                  <a:pt x="6507" y="11964"/>
                  <a:pt x="6499" y="11956"/>
                </a:cubicBezTo>
              </a:path>
              <a:path w="20241" h="7517">
                <a:moveTo>
                  <a:pt x="7020" y="11584"/>
                </a:moveTo>
                <a:cubicBezTo>
                  <a:pt x="6923" y="11668"/>
                  <a:pt x="6857" y="11771"/>
                  <a:pt x="6995" y="11857"/>
                </a:cubicBezTo>
                <a:cubicBezTo>
                  <a:pt x="7111" y="11930"/>
                  <a:pt x="7280" y="11809"/>
                  <a:pt x="7169" y="11683"/>
                </a:cubicBezTo>
                <a:cubicBezTo>
                  <a:pt x="7110" y="11616"/>
                  <a:pt x="7011" y="11636"/>
                  <a:pt x="6945" y="11609"/>
                </a:cubicBezTo>
              </a:path>
              <a:path w="20241" h="7517">
                <a:moveTo>
                  <a:pt x="7417" y="11534"/>
                </a:moveTo>
                <a:cubicBezTo>
                  <a:pt x="7334" y="11575"/>
                  <a:pt x="7242" y="11695"/>
                  <a:pt x="7293" y="11807"/>
                </a:cubicBezTo>
                <a:cubicBezTo>
                  <a:pt x="7366" y="11969"/>
                  <a:pt x="7627" y="11871"/>
                  <a:pt x="7665" y="11733"/>
                </a:cubicBezTo>
                <a:cubicBezTo>
                  <a:pt x="7696" y="11619"/>
                  <a:pt x="7506" y="11591"/>
                  <a:pt x="7441" y="11584"/>
                </a:cubicBezTo>
              </a:path>
              <a:path w="20241" h="7517">
                <a:moveTo>
                  <a:pt x="4688" y="12998"/>
                </a:moveTo>
                <a:cubicBezTo>
                  <a:pt x="4767" y="12958"/>
                  <a:pt x="4855" y="12968"/>
                  <a:pt x="4936" y="12998"/>
                </a:cubicBezTo>
                <a:cubicBezTo>
                  <a:pt x="4906" y="13057"/>
                  <a:pt x="4888" y="13080"/>
                  <a:pt x="4837" y="13097"/>
                </a:cubicBezTo>
                <a:cubicBezTo>
                  <a:pt x="4855" y="13150"/>
                  <a:pt x="4965" y="13099"/>
                  <a:pt x="4961" y="13171"/>
                </a:cubicBezTo>
                <a:cubicBezTo>
                  <a:pt x="4958" y="13229"/>
                  <a:pt x="4774" y="13391"/>
                  <a:pt x="4738" y="13320"/>
                </a:cubicBezTo>
                <a:cubicBezTo>
                  <a:pt x="4738" y="13295"/>
                  <a:pt x="4738" y="13271"/>
                  <a:pt x="4738" y="13246"/>
                </a:cubicBezTo>
              </a:path>
              <a:path w="20241" h="7517">
                <a:moveTo>
                  <a:pt x="5259" y="12998"/>
                </a:moveTo>
                <a:cubicBezTo>
                  <a:pt x="5164" y="13026"/>
                  <a:pt x="5020" y="13107"/>
                  <a:pt x="5085" y="13246"/>
                </a:cubicBezTo>
                <a:cubicBezTo>
                  <a:pt x="5110" y="13271"/>
                  <a:pt x="5134" y="13295"/>
                  <a:pt x="5159" y="13320"/>
                </a:cubicBezTo>
                <a:cubicBezTo>
                  <a:pt x="5315" y="13296"/>
                  <a:pt x="5419" y="13243"/>
                  <a:pt x="5308" y="13072"/>
                </a:cubicBezTo>
                <a:cubicBezTo>
                  <a:pt x="5247" y="13011"/>
                  <a:pt x="5240" y="12986"/>
                  <a:pt x="5184" y="12998"/>
                </a:cubicBezTo>
              </a:path>
              <a:path w="20241" h="7517">
                <a:moveTo>
                  <a:pt x="5556" y="12973"/>
                </a:moveTo>
                <a:cubicBezTo>
                  <a:pt x="5556" y="13053"/>
                  <a:pt x="5592" y="13123"/>
                  <a:pt x="5606" y="13196"/>
                </a:cubicBezTo>
                <a:cubicBezTo>
                  <a:pt x="5606" y="13238"/>
                  <a:pt x="5598" y="13254"/>
                  <a:pt x="5631" y="13246"/>
                </a:cubicBezTo>
              </a:path>
              <a:path w="20241" h="7517">
                <a:moveTo>
                  <a:pt x="6102" y="12973"/>
                </a:moveTo>
                <a:cubicBezTo>
                  <a:pt x="6224" y="12973"/>
                  <a:pt x="6330" y="12951"/>
                  <a:pt x="6449" y="12923"/>
                </a:cubicBezTo>
              </a:path>
              <a:path w="20241" h="7517">
                <a:moveTo>
                  <a:pt x="6648" y="12799"/>
                </a:moveTo>
                <a:cubicBezTo>
                  <a:pt x="6641" y="12828"/>
                  <a:pt x="6588" y="12948"/>
                  <a:pt x="6623" y="12973"/>
                </a:cubicBezTo>
                <a:cubicBezTo>
                  <a:pt x="6742" y="13057"/>
                  <a:pt x="6833" y="12980"/>
                  <a:pt x="6921" y="12923"/>
                </a:cubicBezTo>
              </a:path>
              <a:path w="20241" h="7517">
                <a:moveTo>
                  <a:pt x="6871" y="12725"/>
                </a:moveTo>
                <a:cubicBezTo>
                  <a:pt x="6877" y="12834"/>
                  <a:pt x="6852" y="13050"/>
                  <a:pt x="6896" y="13146"/>
                </a:cubicBezTo>
                <a:cubicBezTo>
                  <a:pt x="6904" y="13146"/>
                  <a:pt x="6913" y="13146"/>
                  <a:pt x="6921" y="13146"/>
                </a:cubicBezTo>
              </a:path>
              <a:path w="20241" h="7517">
                <a:moveTo>
                  <a:pt x="7169" y="12750"/>
                </a:moveTo>
                <a:cubicBezTo>
                  <a:pt x="7074" y="12813"/>
                  <a:pt x="6962" y="12952"/>
                  <a:pt x="7069" y="13072"/>
                </a:cubicBezTo>
                <a:cubicBezTo>
                  <a:pt x="7180" y="13196"/>
                  <a:pt x="7501" y="13033"/>
                  <a:pt x="7417" y="12874"/>
                </a:cubicBezTo>
                <a:cubicBezTo>
                  <a:pt x="7356" y="12854"/>
                  <a:pt x="7341" y="12856"/>
                  <a:pt x="7317" y="12824"/>
                </a:cubicBezTo>
              </a:path>
              <a:path w="20241" h="7517">
                <a:moveTo>
                  <a:pt x="7764" y="12750"/>
                </a:moveTo>
                <a:cubicBezTo>
                  <a:pt x="7663" y="12874"/>
                  <a:pt x="7640" y="12933"/>
                  <a:pt x="7714" y="13072"/>
                </a:cubicBezTo>
                <a:cubicBezTo>
                  <a:pt x="7801" y="13057"/>
                  <a:pt x="7985" y="12992"/>
                  <a:pt x="7913" y="12849"/>
                </a:cubicBezTo>
                <a:cubicBezTo>
                  <a:pt x="7849" y="12817"/>
                  <a:pt x="7818" y="12805"/>
                  <a:pt x="7764" y="12799"/>
                </a:cubicBezTo>
              </a:path>
              <a:path w="20241" h="7517">
                <a:moveTo>
                  <a:pt x="4266" y="12650"/>
                </a:moveTo>
                <a:cubicBezTo>
                  <a:pt x="4614" y="12627"/>
                  <a:pt x="4959" y="12607"/>
                  <a:pt x="5308" y="12576"/>
                </a:cubicBezTo>
                <a:cubicBezTo>
                  <a:pt x="5681" y="12543"/>
                  <a:pt x="6051" y="12528"/>
                  <a:pt x="6424" y="12502"/>
                </a:cubicBezTo>
                <a:cubicBezTo>
                  <a:pt x="6756" y="12479"/>
                  <a:pt x="7087" y="12425"/>
                  <a:pt x="7417" y="12378"/>
                </a:cubicBezTo>
                <a:cubicBezTo>
                  <a:pt x="7969" y="12299"/>
                  <a:pt x="8523" y="12238"/>
                  <a:pt x="9079" y="12179"/>
                </a:cubicBezTo>
                <a:cubicBezTo>
                  <a:pt x="10195" y="12060"/>
                  <a:pt x="11308" y="12028"/>
                  <a:pt x="12427" y="12005"/>
                </a:cubicBezTo>
                <a:cubicBezTo>
                  <a:pt x="13333" y="11986"/>
                  <a:pt x="14230" y="12019"/>
                  <a:pt x="15131" y="12105"/>
                </a:cubicBezTo>
                <a:cubicBezTo>
                  <a:pt x="16322" y="12219"/>
                  <a:pt x="17508" y="12328"/>
                  <a:pt x="18703" y="12353"/>
                </a:cubicBezTo>
                <a:cubicBezTo>
                  <a:pt x="18936" y="12358"/>
                  <a:pt x="19165" y="12372"/>
                  <a:pt x="19397" y="12378"/>
                </a:cubicBezTo>
                <a:cubicBezTo>
                  <a:pt x="19723" y="12387"/>
                  <a:pt x="20046" y="12383"/>
                  <a:pt x="20365" y="12378"/>
                </a:cubicBezTo>
                <a:cubicBezTo>
                  <a:pt x="20572" y="12375"/>
                  <a:pt x="20758" y="12351"/>
                  <a:pt x="20960" y="12328"/>
                </a:cubicBezTo>
                <a:cubicBezTo>
                  <a:pt x="21037" y="12319"/>
                  <a:pt x="21109" y="12310"/>
                  <a:pt x="21183" y="12303"/>
                </a:cubicBezTo>
                <a:cubicBezTo>
                  <a:pt x="21191" y="12303"/>
                  <a:pt x="21200" y="12303"/>
                  <a:pt x="21208" y="12303"/>
                </a:cubicBezTo>
              </a:path>
              <a:path w="20241" h="7517">
                <a:moveTo>
                  <a:pt x="10195" y="11385"/>
                </a:moveTo>
                <a:cubicBezTo>
                  <a:pt x="10195" y="11546"/>
                  <a:pt x="10194" y="11701"/>
                  <a:pt x="10170" y="11857"/>
                </a:cubicBezTo>
                <a:cubicBezTo>
                  <a:pt x="10170" y="11881"/>
                  <a:pt x="10170" y="11890"/>
                  <a:pt x="10170" y="11906"/>
                </a:cubicBezTo>
              </a:path>
              <a:path w="20241" h="7517">
                <a:moveTo>
                  <a:pt x="10592" y="11410"/>
                </a:moveTo>
                <a:cubicBezTo>
                  <a:pt x="10592" y="11335"/>
                  <a:pt x="10592" y="11653"/>
                  <a:pt x="10592" y="11683"/>
                </a:cubicBezTo>
                <a:cubicBezTo>
                  <a:pt x="10592" y="11852"/>
                  <a:pt x="10594" y="11843"/>
                  <a:pt x="10666" y="11658"/>
                </a:cubicBezTo>
              </a:path>
              <a:path w="20241" h="7517">
                <a:moveTo>
                  <a:pt x="10220" y="12700"/>
                </a:moveTo>
                <a:cubicBezTo>
                  <a:pt x="10220" y="12841"/>
                  <a:pt x="10220" y="12981"/>
                  <a:pt x="10220" y="13122"/>
                </a:cubicBezTo>
              </a:path>
              <a:path w="20241" h="7517">
                <a:moveTo>
                  <a:pt x="10964" y="11286"/>
                </a:moveTo>
                <a:cubicBezTo>
                  <a:pt x="10964" y="11462"/>
                  <a:pt x="10977" y="11633"/>
                  <a:pt x="10988" y="11807"/>
                </a:cubicBezTo>
                <a:cubicBezTo>
                  <a:pt x="10991" y="11855"/>
                  <a:pt x="10988" y="11907"/>
                  <a:pt x="10988" y="11956"/>
                </a:cubicBezTo>
              </a:path>
              <a:path w="20241" h="7517">
                <a:moveTo>
                  <a:pt x="9674" y="11261"/>
                </a:moveTo>
                <a:cubicBezTo>
                  <a:pt x="9702" y="11279"/>
                  <a:pt x="9959" y="11449"/>
                  <a:pt x="10046" y="11485"/>
                </a:cubicBezTo>
                <a:cubicBezTo>
                  <a:pt x="10376" y="11623"/>
                  <a:pt x="10735" y="11692"/>
                  <a:pt x="11063" y="11832"/>
                </a:cubicBezTo>
                <a:cubicBezTo>
                  <a:pt x="11177" y="11881"/>
                  <a:pt x="11238" y="11906"/>
                  <a:pt x="11361" y="11906"/>
                </a:cubicBezTo>
                <a:cubicBezTo>
                  <a:pt x="11385" y="11906"/>
                  <a:pt x="11394" y="11906"/>
                  <a:pt x="11410" y="11906"/>
                </a:cubicBezTo>
              </a:path>
              <a:path w="20241" h="7517">
                <a:moveTo>
                  <a:pt x="11832" y="11311"/>
                </a:moveTo>
                <a:cubicBezTo>
                  <a:pt x="11832" y="11512"/>
                  <a:pt x="11875" y="11777"/>
                  <a:pt x="11807" y="11956"/>
                </a:cubicBezTo>
              </a:path>
              <a:path w="20241" h="7517">
                <a:moveTo>
                  <a:pt x="10592" y="12750"/>
                </a:moveTo>
                <a:cubicBezTo>
                  <a:pt x="10592" y="12725"/>
                  <a:pt x="10592" y="12717"/>
                  <a:pt x="10592" y="12700"/>
                </a:cubicBezTo>
                <a:cubicBezTo>
                  <a:pt x="10612" y="12883"/>
                  <a:pt x="10616" y="13061"/>
                  <a:pt x="10616" y="13246"/>
                </a:cubicBezTo>
                <a:cubicBezTo>
                  <a:pt x="10616" y="13287"/>
                  <a:pt x="10616" y="13311"/>
                  <a:pt x="10616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2920" y="2874960"/>
            <a:ext cx="2840040" cy="474840"/>
          </a:xfrm>
          <a:custGeom>
            <a:avLst/>
            <a:gdLst/>
            <a:ahLst/>
            <a:rect l="l" t="t" r="r" b="b"/>
            <a:pathLst>
              <a:path w="7889" h="1316">
                <a:moveTo>
                  <a:pt x="10294" y="8285"/>
                </a:moveTo>
                <a:cubicBezTo>
                  <a:pt x="10251" y="8441"/>
                  <a:pt x="10235" y="8533"/>
                  <a:pt x="10145" y="8657"/>
                </a:cubicBezTo>
              </a:path>
              <a:path w="7889" h="1316">
                <a:moveTo>
                  <a:pt x="11807" y="8260"/>
                </a:moveTo>
                <a:cubicBezTo>
                  <a:pt x="11760" y="8399"/>
                  <a:pt x="11746" y="8439"/>
                  <a:pt x="11733" y="8533"/>
                </a:cubicBezTo>
              </a:path>
              <a:path w="7889" h="1316">
                <a:moveTo>
                  <a:pt x="11857" y="7987"/>
                </a:moveTo>
                <a:lnTo>
                  <a:pt x="11857" y="7987"/>
                </a:lnTo>
                <a:lnTo>
                  <a:pt x="11857" y="7987"/>
                </a:lnTo>
              </a:path>
              <a:path w="7889" h="1316">
                <a:moveTo>
                  <a:pt x="11857" y="7987"/>
                </a:moveTo>
                <a:lnTo>
                  <a:pt x="11857" y="7987"/>
                </a:lnTo>
              </a:path>
              <a:path w="7889" h="1316">
                <a:moveTo>
                  <a:pt x="18033" y="8682"/>
                </a:moveTo>
                <a:cubicBezTo>
                  <a:pt x="18018" y="8872"/>
                  <a:pt x="18000" y="9063"/>
                  <a:pt x="17983" y="9252"/>
                </a:cubicBezTo>
                <a:cubicBezTo>
                  <a:pt x="17983" y="9269"/>
                  <a:pt x="17983" y="9285"/>
                  <a:pt x="17983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0760" y="3643200"/>
            <a:ext cx="1287360" cy="206640"/>
          </a:xfrm>
          <a:custGeom>
            <a:avLst/>
            <a:gdLst/>
            <a:ahLst/>
            <a:rect l="l" t="t" r="r" b="b"/>
            <a:pathLst>
              <a:path w="3573" h="572">
                <a:moveTo>
                  <a:pt x="4142" y="10244"/>
                </a:moveTo>
                <a:cubicBezTo>
                  <a:pt x="4142" y="10341"/>
                  <a:pt x="4202" y="10420"/>
                  <a:pt x="4217" y="10517"/>
                </a:cubicBezTo>
                <a:cubicBezTo>
                  <a:pt x="4232" y="10616"/>
                  <a:pt x="4168" y="10657"/>
                  <a:pt x="4266" y="10592"/>
                </a:cubicBezTo>
              </a:path>
              <a:path w="3573" h="572">
                <a:moveTo>
                  <a:pt x="4564" y="10220"/>
                </a:moveTo>
                <a:cubicBezTo>
                  <a:pt x="4493" y="10330"/>
                  <a:pt x="4352" y="10527"/>
                  <a:pt x="4465" y="10666"/>
                </a:cubicBezTo>
                <a:cubicBezTo>
                  <a:pt x="4604" y="10837"/>
                  <a:pt x="4772" y="10528"/>
                  <a:pt x="4762" y="10418"/>
                </a:cubicBezTo>
                <a:cubicBezTo>
                  <a:pt x="4752" y="10307"/>
                  <a:pt x="4694" y="10294"/>
                  <a:pt x="4614" y="10294"/>
                </a:cubicBezTo>
              </a:path>
              <a:path w="3573" h="572">
                <a:moveTo>
                  <a:pt x="5085" y="10220"/>
                </a:moveTo>
                <a:cubicBezTo>
                  <a:pt x="5114" y="10343"/>
                  <a:pt x="5121" y="10422"/>
                  <a:pt x="5110" y="10542"/>
                </a:cubicBezTo>
                <a:cubicBezTo>
                  <a:pt x="5110" y="10550"/>
                  <a:pt x="5110" y="10559"/>
                  <a:pt x="5110" y="10567"/>
                </a:cubicBezTo>
              </a:path>
              <a:path w="3573" h="572">
                <a:moveTo>
                  <a:pt x="5482" y="10294"/>
                </a:moveTo>
                <a:cubicBezTo>
                  <a:pt x="5586" y="10347"/>
                  <a:pt x="5712" y="10312"/>
                  <a:pt x="5829" y="10294"/>
                </a:cubicBezTo>
              </a:path>
              <a:path w="3573" h="572">
                <a:moveTo>
                  <a:pt x="6226" y="10120"/>
                </a:moveTo>
                <a:cubicBezTo>
                  <a:pt x="6325" y="10120"/>
                  <a:pt x="6425" y="10120"/>
                  <a:pt x="6524" y="10120"/>
                </a:cubicBezTo>
                <a:cubicBezTo>
                  <a:pt x="6481" y="10304"/>
                  <a:pt x="6374" y="10372"/>
                  <a:pt x="6251" y="10517"/>
                </a:cubicBezTo>
                <a:cubicBezTo>
                  <a:pt x="6304" y="10549"/>
                  <a:pt x="6489" y="10547"/>
                  <a:pt x="6573" y="10492"/>
                </a:cubicBezTo>
                <a:cubicBezTo>
                  <a:pt x="6606" y="10426"/>
                  <a:pt x="6631" y="10402"/>
                  <a:pt x="6697" y="10393"/>
                </a:cubicBezTo>
              </a:path>
              <a:path w="3573" h="572">
                <a:moveTo>
                  <a:pt x="6921" y="10145"/>
                </a:moveTo>
                <a:cubicBezTo>
                  <a:pt x="6815" y="10227"/>
                  <a:pt x="6695" y="10330"/>
                  <a:pt x="6796" y="10468"/>
                </a:cubicBezTo>
                <a:cubicBezTo>
                  <a:pt x="6894" y="10602"/>
                  <a:pt x="7109" y="10458"/>
                  <a:pt x="7094" y="10319"/>
                </a:cubicBezTo>
                <a:cubicBezTo>
                  <a:pt x="7080" y="10189"/>
                  <a:pt x="7006" y="10224"/>
                  <a:pt x="6970" y="10170"/>
                </a:cubicBezTo>
              </a:path>
              <a:path w="3573" h="572">
                <a:moveTo>
                  <a:pt x="7466" y="10120"/>
                </a:moveTo>
                <a:cubicBezTo>
                  <a:pt x="7343" y="10188"/>
                  <a:pt x="7260" y="10299"/>
                  <a:pt x="7367" y="10443"/>
                </a:cubicBezTo>
                <a:cubicBezTo>
                  <a:pt x="7483" y="10599"/>
                  <a:pt x="7674" y="10370"/>
                  <a:pt x="7714" y="10269"/>
                </a:cubicBezTo>
                <a:cubicBezTo>
                  <a:pt x="7766" y="10137"/>
                  <a:pt x="7616" y="10145"/>
                  <a:pt x="7541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84720" y="2813040"/>
            <a:ext cx="1911240" cy="1044720"/>
          </a:xfrm>
          <a:custGeom>
            <a:avLst/>
            <a:gdLst/>
            <a:ahLst/>
            <a:rect l="l" t="t" r="r" b="b"/>
            <a:pathLst>
              <a:path w="5309" h="2904">
                <a:moveTo>
                  <a:pt x="9798" y="8012"/>
                </a:moveTo>
                <a:cubicBezTo>
                  <a:pt x="10081" y="7994"/>
                  <a:pt x="10561" y="7871"/>
                  <a:pt x="10840" y="7938"/>
                </a:cubicBezTo>
                <a:cubicBezTo>
                  <a:pt x="10840" y="7946"/>
                  <a:pt x="10840" y="7954"/>
                  <a:pt x="10840" y="7962"/>
                </a:cubicBezTo>
              </a:path>
              <a:path w="5309" h="2904">
                <a:moveTo>
                  <a:pt x="10790" y="8384"/>
                </a:moveTo>
                <a:cubicBezTo>
                  <a:pt x="10849" y="8333"/>
                  <a:pt x="10864" y="8335"/>
                  <a:pt x="10840" y="8260"/>
                </a:cubicBezTo>
                <a:cubicBezTo>
                  <a:pt x="10729" y="8323"/>
                  <a:pt x="10680" y="8377"/>
                  <a:pt x="10592" y="8483"/>
                </a:cubicBezTo>
                <a:cubicBezTo>
                  <a:pt x="10722" y="8496"/>
                  <a:pt x="10764" y="8435"/>
                  <a:pt x="10864" y="8334"/>
                </a:cubicBezTo>
                <a:cubicBezTo>
                  <a:pt x="10820" y="8533"/>
                  <a:pt x="10821" y="8563"/>
                  <a:pt x="11013" y="8483"/>
                </a:cubicBezTo>
              </a:path>
              <a:path w="5309" h="2904">
                <a:moveTo>
                  <a:pt x="11336" y="7838"/>
                </a:moveTo>
                <a:cubicBezTo>
                  <a:pt x="11317" y="7917"/>
                  <a:pt x="11135" y="8431"/>
                  <a:pt x="11187" y="8483"/>
                </a:cubicBezTo>
                <a:cubicBezTo>
                  <a:pt x="11195" y="8467"/>
                  <a:pt x="11204" y="8450"/>
                  <a:pt x="11212" y="8434"/>
                </a:cubicBezTo>
              </a:path>
              <a:path w="5309" h="2904">
                <a:moveTo>
                  <a:pt x="11559" y="7813"/>
                </a:moveTo>
                <a:cubicBezTo>
                  <a:pt x="11585" y="8043"/>
                  <a:pt x="11500" y="8230"/>
                  <a:pt x="11460" y="8458"/>
                </a:cubicBezTo>
                <a:cubicBezTo>
                  <a:pt x="11460" y="8531"/>
                  <a:pt x="11459" y="8558"/>
                  <a:pt x="11509" y="8483"/>
                </a:cubicBezTo>
              </a:path>
              <a:path w="5309" h="2904">
                <a:moveTo>
                  <a:pt x="12030" y="8260"/>
                </a:moveTo>
                <a:cubicBezTo>
                  <a:pt x="12190" y="8240"/>
                  <a:pt x="12273" y="8177"/>
                  <a:pt x="12402" y="8086"/>
                </a:cubicBezTo>
                <a:cubicBezTo>
                  <a:pt x="12228" y="8087"/>
                  <a:pt x="12018" y="8216"/>
                  <a:pt x="12005" y="8434"/>
                </a:cubicBezTo>
                <a:cubicBezTo>
                  <a:pt x="12074" y="8501"/>
                  <a:pt x="12117" y="8518"/>
                  <a:pt x="12204" y="8483"/>
                </a:cubicBezTo>
              </a:path>
              <a:path w="5309" h="2904">
                <a:moveTo>
                  <a:pt x="12849" y="8062"/>
                </a:moveTo>
                <a:cubicBezTo>
                  <a:pt x="12760" y="8062"/>
                  <a:pt x="12734" y="8055"/>
                  <a:pt x="12700" y="8111"/>
                </a:cubicBezTo>
                <a:cubicBezTo>
                  <a:pt x="12605" y="8143"/>
                  <a:pt x="12862" y="8204"/>
                  <a:pt x="12874" y="8210"/>
                </a:cubicBezTo>
                <a:cubicBezTo>
                  <a:pt x="13092" y="8323"/>
                  <a:pt x="12724" y="8390"/>
                  <a:pt x="12650" y="8409"/>
                </a:cubicBezTo>
              </a:path>
              <a:path w="5309" h="2904">
                <a:moveTo>
                  <a:pt x="9798" y="10145"/>
                </a:moveTo>
                <a:cubicBezTo>
                  <a:pt x="9798" y="10028"/>
                  <a:pt x="9757" y="10326"/>
                  <a:pt x="9748" y="10443"/>
                </a:cubicBezTo>
                <a:cubicBezTo>
                  <a:pt x="9748" y="10542"/>
                  <a:pt x="9748" y="10558"/>
                  <a:pt x="9748" y="10616"/>
                </a:cubicBezTo>
              </a:path>
              <a:path w="5309" h="2904">
                <a:moveTo>
                  <a:pt x="9748" y="9029"/>
                </a:moveTo>
                <a:cubicBezTo>
                  <a:pt x="9748" y="8956"/>
                  <a:pt x="9722" y="9240"/>
                  <a:pt x="9723" y="9252"/>
                </a:cubicBezTo>
                <a:cubicBezTo>
                  <a:pt x="9729" y="9319"/>
                  <a:pt x="9669" y="9386"/>
                  <a:pt x="9723" y="9426"/>
                </a:cubicBezTo>
                <a:cubicBezTo>
                  <a:pt x="9731" y="9426"/>
                  <a:pt x="9740" y="9426"/>
                  <a:pt x="9748" y="9426"/>
                </a:cubicBezTo>
              </a:path>
              <a:path w="5309" h="2904">
                <a:moveTo>
                  <a:pt x="10393" y="10145"/>
                </a:moveTo>
                <a:cubicBezTo>
                  <a:pt x="10360" y="10156"/>
                  <a:pt x="10322" y="10398"/>
                  <a:pt x="10319" y="10418"/>
                </a:cubicBezTo>
                <a:cubicBezTo>
                  <a:pt x="10312" y="10467"/>
                  <a:pt x="10319" y="10567"/>
                  <a:pt x="10319" y="10517"/>
                </a:cubicBezTo>
              </a:path>
              <a:path w="5309" h="2904">
                <a:moveTo>
                  <a:pt x="10021" y="9054"/>
                </a:moveTo>
                <a:cubicBezTo>
                  <a:pt x="10021" y="9046"/>
                  <a:pt x="10021" y="9037"/>
                  <a:pt x="10021" y="9029"/>
                </a:cubicBezTo>
                <a:cubicBezTo>
                  <a:pt x="10089" y="9130"/>
                  <a:pt x="10071" y="9309"/>
                  <a:pt x="10071" y="9451"/>
                </a:cubicBezTo>
                <a:cubicBezTo>
                  <a:pt x="10071" y="9475"/>
                  <a:pt x="10071" y="9484"/>
                  <a:pt x="10071" y="9500"/>
                </a:cubicBezTo>
              </a:path>
              <a:path w="5309" h="2904">
                <a:moveTo>
                  <a:pt x="10790" y="10195"/>
                </a:moveTo>
                <a:cubicBezTo>
                  <a:pt x="10818" y="10336"/>
                  <a:pt x="10837" y="10467"/>
                  <a:pt x="10840" y="10616"/>
                </a:cubicBezTo>
                <a:cubicBezTo>
                  <a:pt x="10841" y="10658"/>
                  <a:pt x="10840" y="10733"/>
                  <a:pt x="10840" y="10691"/>
                </a:cubicBezTo>
              </a:path>
              <a:path w="5309" h="2904">
                <a:moveTo>
                  <a:pt x="10517" y="9054"/>
                </a:moveTo>
                <a:cubicBezTo>
                  <a:pt x="10517" y="9197"/>
                  <a:pt x="10498" y="9333"/>
                  <a:pt x="10492" y="9475"/>
                </a:cubicBezTo>
                <a:cubicBezTo>
                  <a:pt x="10492" y="9500"/>
                  <a:pt x="10492" y="9508"/>
                  <a:pt x="10517" y="9500"/>
                </a:cubicBezTo>
              </a:path>
              <a:path w="5309" h="2904">
                <a:moveTo>
                  <a:pt x="10889" y="9054"/>
                </a:moveTo>
                <a:cubicBezTo>
                  <a:pt x="10897" y="9037"/>
                  <a:pt x="10906" y="9021"/>
                  <a:pt x="10914" y="9004"/>
                </a:cubicBezTo>
                <a:cubicBezTo>
                  <a:pt x="10972" y="9100"/>
                  <a:pt x="10957" y="9309"/>
                  <a:pt x="10964" y="9426"/>
                </a:cubicBezTo>
                <a:cubicBezTo>
                  <a:pt x="10970" y="9518"/>
                  <a:pt x="10987" y="9603"/>
                  <a:pt x="10939" y="9475"/>
                </a:cubicBezTo>
              </a:path>
              <a:path w="5309" h="2904">
                <a:moveTo>
                  <a:pt x="9401" y="8880"/>
                </a:moveTo>
                <a:cubicBezTo>
                  <a:pt x="9658" y="8931"/>
                  <a:pt x="9918" y="9087"/>
                  <a:pt x="10170" y="9178"/>
                </a:cubicBezTo>
                <a:cubicBezTo>
                  <a:pt x="10484" y="9291"/>
                  <a:pt x="10797" y="9420"/>
                  <a:pt x="11112" y="9525"/>
                </a:cubicBezTo>
                <a:cubicBezTo>
                  <a:pt x="11120" y="9525"/>
                  <a:pt x="11129" y="9525"/>
                  <a:pt x="11137" y="9525"/>
                </a:cubicBezTo>
              </a:path>
              <a:path w="5309" h="2904">
                <a:moveTo>
                  <a:pt x="11658" y="9054"/>
                </a:moveTo>
                <a:cubicBezTo>
                  <a:pt x="11744" y="9076"/>
                  <a:pt x="11773" y="9260"/>
                  <a:pt x="11782" y="9327"/>
                </a:cubicBezTo>
                <a:cubicBezTo>
                  <a:pt x="11782" y="9327"/>
                  <a:pt x="11782" y="9679"/>
                  <a:pt x="11782" y="9599"/>
                </a:cubicBezTo>
              </a:path>
              <a:path w="5309" h="2904">
                <a:moveTo>
                  <a:pt x="12105" y="9103"/>
                </a:moveTo>
                <a:cubicBezTo>
                  <a:pt x="12181" y="9130"/>
                  <a:pt x="12153" y="9383"/>
                  <a:pt x="12154" y="9451"/>
                </a:cubicBezTo>
                <a:cubicBezTo>
                  <a:pt x="12154" y="9550"/>
                  <a:pt x="12154" y="9566"/>
                  <a:pt x="12154" y="9624"/>
                </a:cubicBezTo>
              </a:path>
              <a:path w="5309" h="2904">
                <a:moveTo>
                  <a:pt x="12551" y="9128"/>
                </a:moveTo>
                <a:cubicBezTo>
                  <a:pt x="12576" y="9079"/>
                  <a:pt x="12585" y="9062"/>
                  <a:pt x="12601" y="9029"/>
                </a:cubicBezTo>
                <a:cubicBezTo>
                  <a:pt x="12617" y="9170"/>
                  <a:pt x="12619" y="9313"/>
                  <a:pt x="12650" y="9451"/>
                </a:cubicBezTo>
                <a:cubicBezTo>
                  <a:pt x="12650" y="9443"/>
                  <a:pt x="12650" y="9434"/>
                  <a:pt x="12650" y="9426"/>
                </a:cubicBezTo>
              </a:path>
              <a:path w="5309" h="2904">
                <a:moveTo>
                  <a:pt x="13047" y="9079"/>
                </a:moveTo>
                <a:cubicBezTo>
                  <a:pt x="13036" y="9177"/>
                  <a:pt x="13085" y="9350"/>
                  <a:pt x="13097" y="9475"/>
                </a:cubicBezTo>
                <a:cubicBezTo>
                  <a:pt x="13097" y="9467"/>
                  <a:pt x="13097" y="9459"/>
                  <a:pt x="13097" y="9451"/>
                </a:cubicBezTo>
              </a:path>
              <a:path w="5309" h="2904">
                <a:moveTo>
                  <a:pt x="11683" y="9153"/>
                </a:moveTo>
                <a:cubicBezTo>
                  <a:pt x="11849" y="9134"/>
                  <a:pt x="11958" y="9161"/>
                  <a:pt x="12129" y="9203"/>
                </a:cubicBezTo>
                <a:cubicBezTo>
                  <a:pt x="12482" y="9289"/>
                  <a:pt x="12837" y="9396"/>
                  <a:pt x="13196" y="9426"/>
                </a:cubicBezTo>
                <a:cubicBezTo>
                  <a:pt x="13204" y="9426"/>
                  <a:pt x="13213" y="9426"/>
                  <a:pt x="13221" y="9426"/>
                </a:cubicBezTo>
              </a:path>
              <a:path w="5309" h="2904">
                <a:moveTo>
                  <a:pt x="13717" y="9103"/>
                </a:moveTo>
                <a:cubicBezTo>
                  <a:pt x="13727" y="9047"/>
                  <a:pt x="13755" y="9003"/>
                  <a:pt x="13767" y="8954"/>
                </a:cubicBezTo>
                <a:cubicBezTo>
                  <a:pt x="13784" y="9112"/>
                  <a:pt x="13798" y="9269"/>
                  <a:pt x="13816" y="9426"/>
                </a:cubicBezTo>
                <a:cubicBezTo>
                  <a:pt x="13816" y="9484"/>
                  <a:pt x="13836" y="9466"/>
                  <a:pt x="13891" y="9351"/>
                </a:cubicBezTo>
              </a:path>
              <a:path w="5309" h="2904">
                <a:moveTo>
                  <a:pt x="14238" y="9029"/>
                </a:moveTo>
                <a:cubicBezTo>
                  <a:pt x="14212" y="8996"/>
                  <a:pt x="14190" y="8963"/>
                  <a:pt x="14163" y="8930"/>
                </a:cubicBezTo>
                <a:cubicBezTo>
                  <a:pt x="14188" y="9081"/>
                  <a:pt x="14152" y="9503"/>
                  <a:pt x="14238" y="9376"/>
                </a:cubicBezTo>
                <a:cubicBezTo>
                  <a:pt x="14246" y="9343"/>
                  <a:pt x="14255" y="9310"/>
                  <a:pt x="14263" y="9277"/>
                </a:cubicBezTo>
              </a:path>
              <a:path w="5309" h="2904">
                <a:moveTo>
                  <a:pt x="14684" y="8954"/>
                </a:moveTo>
                <a:cubicBezTo>
                  <a:pt x="14684" y="8855"/>
                  <a:pt x="14684" y="9104"/>
                  <a:pt x="14684" y="9203"/>
                </a:cubicBezTo>
                <a:cubicBezTo>
                  <a:pt x="14684" y="9316"/>
                  <a:pt x="14699" y="9376"/>
                  <a:pt x="14684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10160" y="2268360"/>
            <a:ext cx="2384640" cy="928800"/>
          </a:xfrm>
          <a:custGeom>
            <a:avLst/>
            <a:gdLst/>
            <a:ahLst/>
            <a:rect l="l" t="t" r="r" b="b"/>
            <a:pathLst>
              <a:path w="6624" h="2581">
                <a:moveTo>
                  <a:pt x="16346" y="7739"/>
                </a:moveTo>
                <a:cubicBezTo>
                  <a:pt x="16359" y="7537"/>
                  <a:pt x="16325" y="7442"/>
                  <a:pt x="16520" y="7441"/>
                </a:cubicBezTo>
                <a:cubicBezTo>
                  <a:pt x="16586" y="7441"/>
                  <a:pt x="16603" y="7441"/>
                  <a:pt x="16644" y="7441"/>
                </a:cubicBezTo>
                <a:cubicBezTo>
                  <a:pt x="16562" y="7661"/>
                  <a:pt x="16511" y="7826"/>
                  <a:pt x="16321" y="7987"/>
                </a:cubicBezTo>
                <a:cubicBezTo>
                  <a:pt x="16051" y="8215"/>
                  <a:pt x="15854" y="8176"/>
                  <a:pt x="15602" y="7987"/>
                </a:cubicBezTo>
                <a:cubicBezTo>
                  <a:pt x="15515" y="7920"/>
                  <a:pt x="15694" y="8036"/>
                  <a:pt x="15801" y="8062"/>
                </a:cubicBezTo>
                <a:cubicBezTo>
                  <a:pt x="16007" y="8087"/>
                  <a:pt x="16081" y="8094"/>
                  <a:pt x="16222" y="8062"/>
                </a:cubicBezTo>
              </a:path>
              <a:path w="6624" h="2581">
                <a:moveTo>
                  <a:pt x="16247" y="7962"/>
                </a:moveTo>
                <a:cubicBezTo>
                  <a:pt x="16427" y="7895"/>
                  <a:pt x="16573" y="7795"/>
                  <a:pt x="16743" y="7714"/>
                </a:cubicBezTo>
                <a:cubicBezTo>
                  <a:pt x="16751" y="7714"/>
                  <a:pt x="16760" y="7714"/>
                  <a:pt x="16768" y="7714"/>
                </a:cubicBezTo>
                <a:cubicBezTo>
                  <a:pt x="16863" y="7848"/>
                  <a:pt x="16876" y="7948"/>
                  <a:pt x="16842" y="8111"/>
                </a:cubicBezTo>
                <a:cubicBezTo>
                  <a:pt x="16834" y="8128"/>
                  <a:pt x="16826" y="8144"/>
                  <a:pt x="16818" y="8161"/>
                </a:cubicBezTo>
                <a:cubicBezTo>
                  <a:pt x="16818" y="8220"/>
                  <a:pt x="16840" y="8035"/>
                  <a:pt x="16867" y="7987"/>
                </a:cubicBezTo>
                <a:cubicBezTo>
                  <a:pt x="16895" y="7959"/>
                  <a:pt x="16909" y="7950"/>
                  <a:pt x="16942" y="7962"/>
                </a:cubicBezTo>
              </a:path>
              <a:path w="6624" h="2581">
                <a:moveTo>
                  <a:pt x="17190" y="7987"/>
                </a:moveTo>
                <a:cubicBezTo>
                  <a:pt x="17228" y="7910"/>
                  <a:pt x="17313" y="7855"/>
                  <a:pt x="17314" y="7789"/>
                </a:cubicBezTo>
                <a:cubicBezTo>
                  <a:pt x="17154" y="7829"/>
                  <a:pt x="17120" y="7902"/>
                  <a:pt x="17090" y="8062"/>
                </a:cubicBezTo>
                <a:cubicBezTo>
                  <a:pt x="17202" y="8117"/>
                  <a:pt x="17248" y="8131"/>
                  <a:pt x="17338" y="8086"/>
                </a:cubicBezTo>
              </a:path>
              <a:path w="6624" h="2581">
                <a:moveTo>
                  <a:pt x="17512" y="7714"/>
                </a:moveTo>
                <a:cubicBezTo>
                  <a:pt x="17503" y="7727"/>
                  <a:pt x="17247" y="8184"/>
                  <a:pt x="17462" y="8062"/>
                </a:cubicBezTo>
                <a:cubicBezTo>
                  <a:pt x="17555" y="8009"/>
                  <a:pt x="17601" y="7893"/>
                  <a:pt x="17661" y="7813"/>
                </a:cubicBezTo>
                <a:cubicBezTo>
                  <a:pt x="17536" y="8139"/>
                  <a:pt x="17348" y="8499"/>
                  <a:pt x="17338" y="8855"/>
                </a:cubicBezTo>
                <a:cubicBezTo>
                  <a:pt x="17346" y="8863"/>
                  <a:pt x="17355" y="8872"/>
                  <a:pt x="17363" y="8880"/>
                </a:cubicBezTo>
                <a:cubicBezTo>
                  <a:pt x="17487" y="8678"/>
                  <a:pt x="17695" y="8382"/>
                  <a:pt x="17537" y="8136"/>
                </a:cubicBezTo>
                <a:cubicBezTo>
                  <a:pt x="17504" y="8111"/>
                  <a:pt x="17471" y="8087"/>
                  <a:pt x="17438" y="8062"/>
                </a:cubicBezTo>
              </a:path>
              <a:path w="6624" h="2581">
                <a:moveTo>
                  <a:pt x="17835" y="7739"/>
                </a:moveTo>
                <a:cubicBezTo>
                  <a:pt x="17834" y="7744"/>
                  <a:pt x="17715" y="8182"/>
                  <a:pt x="17859" y="8086"/>
                </a:cubicBezTo>
                <a:cubicBezTo>
                  <a:pt x="17973" y="7973"/>
                  <a:pt x="18016" y="7923"/>
                  <a:pt x="18058" y="7813"/>
                </a:cubicBezTo>
                <a:cubicBezTo>
                  <a:pt x="18066" y="7780"/>
                  <a:pt x="18075" y="7747"/>
                  <a:pt x="18083" y="7714"/>
                </a:cubicBezTo>
                <a:cubicBezTo>
                  <a:pt x="18066" y="7800"/>
                  <a:pt x="17954" y="8105"/>
                  <a:pt x="18058" y="8186"/>
                </a:cubicBezTo>
                <a:cubicBezTo>
                  <a:pt x="18083" y="8178"/>
                  <a:pt x="18107" y="8169"/>
                  <a:pt x="18132" y="8161"/>
                </a:cubicBezTo>
              </a:path>
              <a:path w="6624" h="2581">
                <a:moveTo>
                  <a:pt x="18281" y="7838"/>
                </a:moveTo>
                <a:cubicBezTo>
                  <a:pt x="18386" y="7826"/>
                  <a:pt x="18460" y="7808"/>
                  <a:pt x="18529" y="7739"/>
                </a:cubicBezTo>
                <a:cubicBezTo>
                  <a:pt x="18396" y="7644"/>
                  <a:pt x="18221" y="7841"/>
                  <a:pt x="18207" y="8012"/>
                </a:cubicBezTo>
                <a:cubicBezTo>
                  <a:pt x="18174" y="8423"/>
                  <a:pt x="18589" y="7863"/>
                  <a:pt x="18604" y="7838"/>
                </a:cubicBezTo>
                <a:cubicBezTo>
                  <a:pt x="18731" y="7668"/>
                  <a:pt x="18632" y="7969"/>
                  <a:pt x="18628" y="8062"/>
                </a:cubicBezTo>
                <a:cubicBezTo>
                  <a:pt x="18556" y="8134"/>
                  <a:pt x="18711" y="7728"/>
                  <a:pt x="18728" y="7689"/>
                </a:cubicBezTo>
                <a:cubicBezTo>
                  <a:pt x="18736" y="7681"/>
                  <a:pt x="18744" y="7673"/>
                  <a:pt x="18752" y="7665"/>
                </a:cubicBezTo>
                <a:cubicBezTo>
                  <a:pt x="18840" y="7804"/>
                  <a:pt x="18800" y="8177"/>
                  <a:pt x="18951" y="8111"/>
                </a:cubicBezTo>
                <a:cubicBezTo>
                  <a:pt x="18959" y="8086"/>
                  <a:pt x="18968" y="8062"/>
                  <a:pt x="18976" y="8037"/>
                </a:cubicBezTo>
              </a:path>
              <a:path w="6624" h="2581">
                <a:moveTo>
                  <a:pt x="19323" y="7640"/>
                </a:moveTo>
                <a:cubicBezTo>
                  <a:pt x="19323" y="7512"/>
                  <a:pt x="19224" y="7547"/>
                  <a:pt x="19174" y="7689"/>
                </a:cubicBezTo>
                <a:cubicBezTo>
                  <a:pt x="19174" y="7798"/>
                  <a:pt x="19169" y="7825"/>
                  <a:pt x="19199" y="7888"/>
                </a:cubicBezTo>
                <a:cubicBezTo>
                  <a:pt x="19433" y="7851"/>
                  <a:pt x="19506" y="7793"/>
                  <a:pt x="19645" y="7590"/>
                </a:cubicBezTo>
                <a:cubicBezTo>
                  <a:pt x="19631" y="7616"/>
                  <a:pt x="19473" y="7928"/>
                  <a:pt x="19621" y="7913"/>
                </a:cubicBezTo>
                <a:cubicBezTo>
                  <a:pt x="19726" y="7903"/>
                  <a:pt x="19772" y="7717"/>
                  <a:pt x="19819" y="7640"/>
                </a:cubicBezTo>
                <a:cubicBezTo>
                  <a:pt x="19798" y="7885"/>
                  <a:pt x="19794" y="8140"/>
                  <a:pt x="19621" y="8334"/>
                </a:cubicBezTo>
                <a:cubicBezTo>
                  <a:pt x="19454" y="8521"/>
                  <a:pt x="19327" y="8524"/>
                  <a:pt x="19124" y="8483"/>
                </a:cubicBezTo>
              </a:path>
              <a:path w="6624" h="2581">
                <a:moveTo>
                  <a:pt x="15304" y="7268"/>
                </a:moveTo>
                <a:cubicBezTo>
                  <a:pt x="15451" y="7175"/>
                  <a:pt x="15659" y="7038"/>
                  <a:pt x="15801" y="6945"/>
                </a:cubicBezTo>
                <a:cubicBezTo>
                  <a:pt x="16037" y="6790"/>
                  <a:pt x="16549" y="6338"/>
                  <a:pt x="16842" y="6300"/>
                </a:cubicBezTo>
                <a:cubicBezTo>
                  <a:pt x="16842" y="6347"/>
                  <a:pt x="16830" y="6373"/>
                  <a:pt x="16793" y="6400"/>
                </a:cubicBezTo>
              </a:path>
              <a:path w="6624" h="2581">
                <a:moveTo>
                  <a:pt x="17165" y="6995"/>
                </a:moveTo>
                <a:cubicBezTo>
                  <a:pt x="17410" y="6944"/>
                  <a:pt x="17649" y="6896"/>
                  <a:pt x="17884" y="6796"/>
                </a:cubicBezTo>
                <a:cubicBezTo>
                  <a:pt x="18128" y="6692"/>
                  <a:pt x="18519" y="6446"/>
                  <a:pt x="18728" y="6400"/>
                </a:cubicBezTo>
                <a:cubicBezTo>
                  <a:pt x="18720" y="6408"/>
                  <a:pt x="18711" y="6416"/>
                  <a:pt x="18703" y="6424"/>
                </a:cubicBezTo>
              </a:path>
              <a:path w="6624" h="2581">
                <a:moveTo>
                  <a:pt x="18926" y="7069"/>
                </a:moveTo>
                <a:cubicBezTo>
                  <a:pt x="19159" y="6982"/>
                  <a:pt x="19445" y="6768"/>
                  <a:pt x="19645" y="6623"/>
                </a:cubicBezTo>
                <a:cubicBezTo>
                  <a:pt x="19798" y="6512"/>
                  <a:pt x="19839" y="6379"/>
                  <a:pt x="19893" y="6524"/>
                </a:cubicBezTo>
              </a:path>
              <a:path w="6624" h="2581">
                <a:moveTo>
                  <a:pt x="20365" y="6970"/>
                </a:moveTo>
                <a:cubicBezTo>
                  <a:pt x="20516" y="6939"/>
                  <a:pt x="20595" y="6856"/>
                  <a:pt x="20737" y="6796"/>
                </a:cubicBezTo>
                <a:cubicBezTo>
                  <a:pt x="21066" y="6659"/>
                  <a:pt x="21558" y="6397"/>
                  <a:pt x="21927" y="6350"/>
                </a:cubicBezTo>
                <a:cubicBezTo>
                  <a:pt x="21927" y="6378"/>
                  <a:pt x="21925" y="6389"/>
                  <a:pt x="21903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60680" y="3214800"/>
            <a:ext cx="27000" cy="160200"/>
          </a:xfrm>
          <a:custGeom>
            <a:avLst/>
            <a:gdLst/>
            <a:ahLst/>
            <a:rect l="l" t="t" r="r" b="b"/>
            <a:pathLst>
              <a:path w="75" h="447">
                <a:moveTo>
                  <a:pt x="4663" y="9004"/>
                </a:moveTo>
                <a:cubicBezTo>
                  <a:pt x="4655" y="8971"/>
                  <a:pt x="4649" y="8915"/>
                  <a:pt x="4638" y="8954"/>
                </a:cubicBezTo>
                <a:cubicBezTo>
                  <a:pt x="4604" y="9075"/>
                  <a:pt x="4657" y="9177"/>
                  <a:pt x="4663" y="9302"/>
                </a:cubicBezTo>
                <a:cubicBezTo>
                  <a:pt x="4663" y="9346"/>
                  <a:pt x="4660" y="9360"/>
                  <a:pt x="4688" y="93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66960" y="3214800"/>
            <a:ext cx="669960" cy="169920"/>
          </a:xfrm>
          <a:custGeom>
            <a:avLst/>
            <a:gdLst/>
            <a:ahLst/>
            <a:rect l="l" t="t" r="r" b="b"/>
            <a:pathLst>
              <a:path w="1862" h="472">
                <a:moveTo>
                  <a:pt x="5184" y="9227"/>
                </a:moveTo>
                <a:cubicBezTo>
                  <a:pt x="5255" y="9176"/>
                  <a:pt x="5393" y="9162"/>
                  <a:pt x="5482" y="9153"/>
                </a:cubicBezTo>
                <a:cubicBezTo>
                  <a:pt x="5556" y="9153"/>
                  <a:pt x="5565" y="9153"/>
                  <a:pt x="5606" y="9153"/>
                </a:cubicBezTo>
              </a:path>
              <a:path w="1862" h="472">
                <a:moveTo>
                  <a:pt x="5829" y="8979"/>
                </a:moveTo>
                <a:cubicBezTo>
                  <a:pt x="5887" y="9080"/>
                  <a:pt x="5932" y="9208"/>
                  <a:pt x="5953" y="9327"/>
                </a:cubicBezTo>
                <a:cubicBezTo>
                  <a:pt x="5953" y="9368"/>
                  <a:pt x="5953" y="9376"/>
                  <a:pt x="5953" y="9401"/>
                </a:cubicBezTo>
              </a:path>
              <a:path w="1862" h="472">
                <a:moveTo>
                  <a:pt x="6251" y="9004"/>
                </a:moveTo>
                <a:cubicBezTo>
                  <a:pt x="6139" y="9136"/>
                  <a:pt x="6092" y="9195"/>
                  <a:pt x="6176" y="9351"/>
                </a:cubicBezTo>
                <a:cubicBezTo>
                  <a:pt x="6363" y="9362"/>
                  <a:pt x="6514" y="9310"/>
                  <a:pt x="6524" y="9079"/>
                </a:cubicBezTo>
                <a:cubicBezTo>
                  <a:pt x="6531" y="8910"/>
                  <a:pt x="6360" y="8893"/>
                  <a:pt x="6276" y="8954"/>
                </a:cubicBezTo>
              </a:path>
              <a:path w="1862" h="472">
                <a:moveTo>
                  <a:pt x="6896" y="8954"/>
                </a:moveTo>
                <a:cubicBezTo>
                  <a:pt x="6800" y="9007"/>
                  <a:pt x="6644" y="9136"/>
                  <a:pt x="6697" y="9277"/>
                </a:cubicBezTo>
                <a:cubicBezTo>
                  <a:pt x="6722" y="9302"/>
                  <a:pt x="6747" y="9326"/>
                  <a:pt x="6772" y="9351"/>
                </a:cubicBezTo>
                <a:cubicBezTo>
                  <a:pt x="6932" y="9286"/>
                  <a:pt x="7100" y="9223"/>
                  <a:pt x="6995" y="9029"/>
                </a:cubicBezTo>
                <a:cubicBezTo>
                  <a:pt x="6949" y="8983"/>
                  <a:pt x="6937" y="8968"/>
                  <a:pt x="6896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34080" y="3081240"/>
            <a:ext cx="125640" cy="241560"/>
          </a:xfrm>
          <a:custGeom>
            <a:avLst/>
            <a:gdLst/>
            <a:ahLst/>
            <a:rect l="l" t="t" r="r" b="b"/>
            <a:pathLst>
              <a:path w="348" h="670">
                <a:moveTo>
                  <a:pt x="18455" y="8706"/>
                </a:moveTo>
                <a:cubicBezTo>
                  <a:pt x="18557" y="8645"/>
                  <a:pt x="18636" y="8581"/>
                  <a:pt x="18752" y="8558"/>
                </a:cubicBezTo>
                <a:cubicBezTo>
                  <a:pt x="18726" y="8700"/>
                  <a:pt x="18676" y="8770"/>
                  <a:pt x="18579" y="8880"/>
                </a:cubicBezTo>
                <a:cubicBezTo>
                  <a:pt x="18512" y="8925"/>
                  <a:pt x="18610" y="8831"/>
                  <a:pt x="18678" y="8855"/>
                </a:cubicBezTo>
                <a:cubicBezTo>
                  <a:pt x="18911" y="8937"/>
                  <a:pt x="18686" y="9142"/>
                  <a:pt x="18579" y="9203"/>
                </a:cubicBezTo>
                <a:cubicBezTo>
                  <a:pt x="18528" y="9232"/>
                  <a:pt x="18484" y="9227"/>
                  <a:pt x="18430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43800" y="3625920"/>
            <a:ext cx="125280" cy="223920"/>
          </a:xfrm>
          <a:custGeom>
            <a:avLst/>
            <a:gdLst/>
            <a:ahLst/>
            <a:rect l="l" t="t" r="r" b="b"/>
            <a:pathLst>
              <a:path w="348" h="621">
                <a:moveTo>
                  <a:pt x="18529" y="10220"/>
                </a:moveTo>
                <a:cubicBezTo>
                  <a:pt x="18611" y="10115"/>
                  <a:pt x="18668" y="10084"/>
                  <a:pt x="18802" y="10071"/>
                </a:cubicBezTo>
                <a:cubicBezTo>
                  <a:pt x="18760" y="10230"/>
                  <a:pt x="18692" y="10321"/>
                  <a:pt x="18554" y="10418"/>
                </a:cubicBezTo>
                <a:cubicBezTo>
                  <a:pt x="18627" y="10345"/>
                  <a:pt x="18780" y="10289"/>
                  <a:pt x="18802" y="10468"/>
                </a:cubicBezTo>
                <a:cubicBezTo>
                  <a:pt x="18823" y="10638"/>
                  <a:pt x="18593" y="10667"/>
                  <a:pt x="18479" y="10691"/>
                </a:cubicBezTo>
                <a:cubicBezTo>
                  <a:pt x="18471" y="10691"/>
                  <a:pt x="18463" y="10691"/>
                  <a:pt x="18455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4205160"/>
            <a:ext cx="134640" cy="2336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18703" y="11683"/>
                </a:moveTo>
                <a:cubicBezTo>
                  <a:pt x="18675" y="11859"/>
                  <a:pt x="18602" y="12075"/>
                  <a:pt x="18628" y="12254"/>
                </a:cubicBezTo>
                <a:cubicBezTo>
                  <a:pt x="18636" y="12270"/>
                  <a:pt x="18645" y="12287"/>
                  <a:pt x="18653" y="12303"/>
                </a:cubicBezTo>
                <a:cubicBezTo>
                  <a:pt x="18819" y="12303"/>
                  <a:pt x="18931" y="12235"/>
                  <a:pt x="19000" y="12055"/>
                </a:cubicBezTo>
                <a:cubicBezTo>
                  <a:pt x="19000" y="12014"/>
                  <a:pt x="19000" y="12006"/>
                  <a:pt x="19000" y="11981"/>
                </a:cubicBezTo>
                <a:cubicBezTo>
                  <a:pt x="18844" y="12017"/>
                  <a:pt x="18766" y="12087"/>
                  <a:pt x="18728" y="12254"/>
                </a:cubicBezTo>
                <a:cubicBezTo>
                  <a:pt x="18728" y="12270"/>
                  <a:pt x="18728" y="12287"/>
                  <a:pt x="18728" y="123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15080" y="4705200"/>
            <a:ext cx="115920" cy="216000"/>
          </a:xfrm>
          <a:custGeom>
            <a:avLst/>
            <a:gdLst/>
            <a:ahLst/>
            <a:rect l="l" t="t" r="r" b="b"/>
            <a:pathLst>
              <a:path w="324" h="596">
                <a:moveTo>
                  <a:pt x="18678" y="13246"/>
                </a:moveTo>
                <a:cubicBezTo>
                  <a:pt x="18725" y="13150"/>
                  <a:pt x="18801" y="13102"/>
                  <a:pt x="18901" y="13072"/>
                </a:cubicBezTo>
                <a:cubicBezTo>
                  <a:pt x="18963" y="13258"/>
                  <a:pt x="18857" y="13443"/>
                  <a:pt x="18728" y="13593"/>
                </a:cubicBezTo>
                <a:cubicBezTo>
                  <a:pt x="18703" y="13610"/>
                  <a:pt x="18678" y="13626"/>
                  <a:pt x="18653" y="13643"/>
                </a:cubicBezTo>
                <a:cubicBezTo>
                  <a:pt x="18679" y="13668"/>
                  <a:pt x="18802" y="13601"/>
                  <a:pt x="18876" y="13593"/>
                </a:cubicBezTo>
                <a:cubicBezTo>
                  <a:pt x="18908" y="13589"/>
                  <a:pt x="18943" y="13593"/>
                  <a:pt x="18976" y="135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0160" y="518004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8951" y="14412"/>
                </a:moveTo>
                <a:cubicBezTo>
                  <a:pt x="18834" y="14394"/>
                  <a:pt x="18723" y="14410"/>
                  <a:pt x="18604" y="14387"/>
                </a:cubicBezTo>
                <a:cubicBezTo>
                  <a:pt x="18596" y="14387"/>
                  <a:pt x="18587" y="14387"/>
                  <a:pt x="18579" y="14387"/>
                </a:cubicBezTo>
                <a:cubicBezTo>
                  <a:pt x="18567" y="14456"/>
                  <a:pt x="18554" y="14513"/>
                  <a:pt x="18554" y="14585"/>
                </a:cubicBezTo>
                <a:cubicBezTo>
                  <a:pt x="18554" y="14593"/>
                  <a:pt x="18554" y="14602"/>
                  <a:pt x="18554" y="14610"/>
                </a:cubicBezTo>
                <a:cubicBezTo>
                  <a:pt x="18648" y="14610"/>
                  <a:pt x="18699" y="14557"/>
                  <a:pt x="18802" y="14610"/>
                </a:cubicBezTo>
                <a:cubicBezTo>
                  <a:pt x="18971" y="14697"/>
                  <a:pt x="18844" y="14889"/>
                  <a:pt x="18703" y="14908"/>
                </a:cubicBezTo>
                <a:cubicBezTo>
                  <a:pt x="18638" y="14886"/>
                  <a:pt x="18623" y="14878"/>
                  <a:pt x="18579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11240" y="5180040"/>
            <a:ext cx="108000" cy="160200"/>
          </a:xfrm>
          <a:custGeom>
            <a:avLst/>
            <a:gdLst/>
            <a:ahLst/>
            <a:rect l="l" t="t" r="r" b="b"/>
            <a:pathLst>
              <a:path w="299" h="447">
                <a:moveTo>
                  <a:pt x="5407" y="14412"/>
                </a:moveTo>
                <a:cubicBezTo>
                  <a:pt x="5323" y="14572"/>
                  <a:pt x="5257" y="14689"/>
                  <a:pt x="5383" y="14833"/>
                </a:cubicBezTo>
                <a:cubicBezTo>
                  <a:pt x="5519" y="14765"/>
                  <a:pt x="5716" y="14614"/>
                  <a:pt x="5556" y="14436"/>
                </a:cubicBezTo>
                <a:cubicBezTo>
                  <a:pt x="5483" y="14400"/>
                  <a:pt x="5478" y="14383"/>
                  <a:pt x="5432" y="143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1040" y="5143680"/>
            <a:ext cx="1429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4936" y="14461"/>
                </a:moveTo>
                <a:cubicBezTo>
                  <a:pt x="4903" y="14501"/>
                  <a:pt x="4878" y="14538"/>
                  <a:pt x="4862" y="14585"/>
                </a:cubicBezTo>
                <a:cubicBezTo>
                  <a:pt x="5028" y="14600"/>
                  <a:pt x="5087" y="14594"/>
                  <a:pt x="5234" y="14511"/>
                </a:cubicBezTo>
              </a:path>
              <a:path w="398" h="497">
                <a:moveTo>
                  <a:pt x="5184" y="14288"/>
                </a:moveTo>
                <a:cubicBezTo>
                  <a:pt x="5171" y="14355"/>
                  <a:pt x="5059" y="14744"/>
                  <a:pt x="5110" y="14784"/>
                </a:cubicBezTo>
                <a:cubicBezTo>
                  <a:pt x="5190" y="14743"/>
                  <a:pt x="5228" y="14708"/>
                  <a:pt x="5259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43080" y="5099040"/>
            <a:ext cx="723960" cy="231840"/>
          </a:xfrm>
          <a:custGeom>
            <a:avLst/>
            <a:gdLst/>
            <a:ahLst/>
            <a:rect l="l" t="t" r="r" b="b"/>
            <a:pathLst>
              <a:path w="2010" h="646">
                <a:moveTo>
                  <a:pt x="5953" y="14412"/>
                </a:moveTo>
                <a:cubicBezTo>
                  <a:pt x="5953" y="14523"/>
                  <a:pt x="5932" y="14767"/>
                  <a:pt x="5978" y="14784"/>
                </a:cubicBezTo>
              </a:path>
              <a:path w="2010" h="646">
                <a:moveTo>
                  <a:pt x="6325" y="14560"/>
                </a:moveTo>
                <a:cubicBezTo>
                  <a:pt x="6416" y="14560"/>
                  <a:pt x="6507" y="14560"/>
                  <a:pt x="6598" y="14560"/>
                </a:cubicBezTo>
              </a:path>
              <a:path w="2010" h="646">
                <a:moveTo>
                  <a:pt x="6846" y="14337"/>
                </a:moveTo>
                <a:cubicBezTo>
                  <a:pt x="6761" y="14398"/>
                  <a:pt x="6712" y="14429"/>
                  <a:pt x="6821" y="14511"/>
                </a:cubicBezTo>
                <a:cubicBezTo>
                  <a:pt x="6948" y="14607"/>
                  <a:pt x="6984" y="14590"/>
                  <a:pt x="7020" y="14734"/>
                </a:cubicBezTo>
                <a:cubicBezTo>
                  <a:pt x="6890" y="14790"/>
                  <a:pt x="6921" y="14752"/>
                  <a:pt x="6821" y="14660"/>
                </a:cubicBezTo>
              </a:path>
              <a:path w="2010" h="646">
                <a:moveTo>
                  <a:pt x="6896" y="14312"/>
                </a:moveTo>
                <a:cubicBezTo>
                  <a:pt x="6995" y="14275"/>
                  <a:pt x="7102" y="14232"/>
                  <a:pt x="7193" y="14263"/>
                </a:cubicBezTo>
              </a:path>
              <a:path w="2010" h="646">
                <a:moveTo>
                  <a:pt x="7417" y="14213"/>
                </a:moveTo>
                <a:cubicBezTo>
                  <a:pt x="7372" y="14326"/>
                  <a:pt x="7258" y="14418"/>
                  <a:pt x="7243" y="14560"/>
                </a:cubicBezTo>
                <a:cubicBezTo>
                  <a:pt x="7251" y="14585"/>
                  <a:pt x="7260" y="14610"/>
                  <a:pt x="7268" y="14635"/>
                </a:cubicBezTo>
                <a:cubicBezTo>
                  <a:pt x="7433" y="14615"/>
                  <a:pt x="7638" y="14563"/>
                  <a:pt x="7541" y="14337"/>
                </a:cubicBezTo>
                <a:cubicBezTo>
                  <a:pt x="7478" y="14275"/>
                  <a:pt x="7468" y="14258"/>
                  <a:pt x="7417" y="14238"/>
                </a:cubicBezTo>
              </a:path>
              <a:path w="2010" h="646">
                <a:moveTo>
                  <a:pt x="7789" y="14163"/>
                </a:moveTo>
                <a:cubicBezTo>
                  <a:pt x="7669" y="14348"/>
                  <a:pt x="7634" y="14404"/>
                  <a:pt x="7764" y="14585"/>
                </a:cubicBezTo>
                <a:cubicBezTo>
                  <a:pt x="7864" y="14541"/>
                  <a:pt x="8093" y="14422"/>
                  <a:pt x="7913" y="14288"/>
                </a:cubicBezTo>
                <a:cubicBezTo>
                  <a:pt x="7819" y="14250"/>
                  <a:pt x="7801" y="14257"/>
                  <a:pt x="7764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70200" y="5010120"/>
            <a:ext cx="588960" cy="482760"/>
          </a:xfrm>
          <a:custGeom>
            <a:avLst/>
            <a:gdLst/>
            <a:ahLst/>
            <a:rect l="l" t="t" r="r" b="b"/>
            <a:pathLst>
              <a:path w="1638" h="1341">
                <a:moveTo>
                  <a:pt x="10567" y="14163"/>
                </a:moveTo>
                <a:cubicBezTo>
                  <a:pt x="10567" y="14155"/>
                  <a:pt x="10567" y="14147"/>
                  <a:pt x="10567" y="14139"/>
                </a:cubicBezTo>
                <a:cubicBezTo>
                  <a:pt x="10501" y="14160"/>
                  <a:pt x="10495" y="14555"/>
                  <a:pt x="10492" y="14610"/>
                </a:cubicBezTo>
                <a:cubicBezTo>
                  <a:pt x="10486" y="14718"/>
                  <a:pt x="10492" y="14991"/>
                  <a:pt x="10492" y="14883"/>
                </a:cubicBezTo>
              </a:path>
              <a:path w="1638" h="1341">
                <a:moveTo>
                  <a:pt x="10964" y="14163"/>
                </a:moveTo>
                <a:cubicBezTo>
                  <a:pt x="10964" y="14014"/>
                  <a:pt x="10995" y="14411"/>
                  <a:pt x="10988" y="14560"/>
                </a:cubicBezTo>
                <a:cubicBezTo>
                  <a:pt x="10981" y="14713"/>
                  <a:pt x="10942" y="14841"/>
                  <a:pt x="10914" y="14982"/>
                </a:cubicBezTo>
              </a:path>
              <a:path w="1638" h="1341">
                <a:moveTo>
                  <a:pt x="11435" y="14139"/>
                </a:moveTo>
                <a:cubicBezTo>
                  <a:pt x="11365" y="14313"/>
                  <a:pt x="11359" y="14498"/>
                  <a:pt x="11336" y="14684"/>
                </a:cubicBezTo>
                <a:cubicBezTo>
                  <a:pt x="11333" y="14712"/>
                  <a:pt x="11339" y="15078"/>
                  <a:pt x="11311" y="15106"/>
                </a:cubicBezTo>
                <a:cubicBezTo>
                  <a:pt x="11303" y="15106"/>
                  <a:pt x="11294" y="15106"/>
                  <a:pt x="11286" y="15106"/>
                </a:cubicBezTo>
              </a:path>
              <a:path w="1638" h="1341">
                <a:moveTo>
                  <a:pt x="11633" y="14387"/>
                </a:moveTo>
                <a:cubicBezTo>
                  <a:pt x="11674" y="14263"/>
                  <a:pt x="11682" y="14875"/>
                  <a:pt x="11683" y="14932"/>
                </a:cubicBezTo>
                <a:cubicBezTo>
                  <a:pt x="11684" y="15048"/>
                  <a:pt x="11683" y="15296"/>
                  <a:pt x="11683" y="15180"/>
                </a:cubicBezTo>
              </a:path>
              <a:path w="1638" h="1341">
                <a:moveTo>
                  <a:pt x="10195" y="13940"/>
                </a:moveTo>
                <a:cubicBezTo>
                  <a:pt x="10413" y="14053"/>
                  <a:pt x="10691" y="14302"/>
                  <a:pt x="10914" y="14486"/>
                </a:cubicBezTo>
                <a:cubicBezTo>
                  <a:pt x="11207" y="14728"/>
                  <a:pt x="11543" y="14967"/>
                  <a:pt x="11807" y="15230"/>
                </a:cubicBezTo>
                <a:cubicBezTo>
                  <a:pt x="11832" y="15230"/>
                  <a:pt x="11840" y="15230"/>
                  <a:pt x="11832" y="152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56160" y="3098880"/>
            <a:ext cx="179640" cy="2509920"/>
          </a:xfrm>
          <a:custGeom>
            <a:avLst/>
            <a:gdLst/>
            <a:ahLst/>
            <a:rect l="l" t="t" r="r" b="b"/>
            <a:pathLst>
              <a:path w="497" h="6971">
                <a:moveTo>
                  <a:pt x="15156" y="8607"/>
                </a:moveTo>
                <a:cubicBezTo>
                  <a:pt x="15166" y="8673"/>
                  <a:pt x="15167" y="8715"/>
                  <a:pt x="15180" y="8781"/>
                </a:cubicBezTo>
                <a:cubicBezTo>
                  <a:pt x="15229" y="9042"/>
                  <a:pt x="15215" y="9311"/>
                  <a:pt x="15230" y="9575"/>
                </a:cubicBezTo>
                <a:cubicBezTo>
                  <a:pt x="15270" y="10280"/>
                  <a:pt x="15347" y="10980"/>
                  <a:pt x="15404" y="11683"/>
                </a:cubicBezTo>
                <a:cubicBezTo>
                  <a:pt x="15434" y="12059"/>
                  <a:pt x="15405" y="12451"/>
                  <a:pt x="15453" y="12824"/>
                </a:cubicBezTo>
                <a:cubicBezTo>
                  <a:pt x="15487" y="13090"/>
                  <a:pt x="15502" y="13351"/>
                  <a:pt x="15528" y="13618"/>
                </a:cubicBezTo>
                <a:cubicBezTo>
                  <a:pt x="15545" y="13792"/>
                  <a:pt x="15581" y="13967"/>
                  <a:pt x="15602" y="14139"/>
                </a:cubicBezTo>
                <a:cubicBezTo>
                  <a:pt x="15618" y="14272"/>
                  <a:pt x="15614" y="14403"/>
                  <a:pt x="15627" y="14536"/>
                </a:cubicBezTo>
                <a:cubicBezTo>
                  <a:pt x="15640" y="14671"/>
                  <a:pt x="15652" y="14794"/>
                  <a:pt x="15652" y="14932"/>
                </a:cubicBezTo>
                <a:cubicBezTo>
                  <a:pt x="15652" y="15138"/>
                  <a:pt x="15656" y="15412"/>
                  <a:pt x="15627" y="155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19120" y="3367080"/>
            <a:ext cx="6296040" cy="196920"/>
          </a:xfrm>
          <a:custGeom>
            <a:avLst/>
            <a:gdLst/>
            <a:ahLst/>
            <a:rect l="l" t="t" r="r" b="b"/>
            <a:pathLst>
              <a:path w="17488" h="547">
                <a:moveTo>
                  <a:pt x="3944" y="9897"/>
                </a:moveTo>
                <a:cubicBezTo>
                  <a:pt x="4031" y="9890"/>
                  <a:pt x="4142" y="9879"/>
                  <a:pt x="4242" y="9872"/>
                </a:cubicBezTo>
                <a:cubicBezTo>
                  <a:pt x="4581" y="9847"/>
                  <a:pt x="4920" y="9823"/>
                  <a:pt x="5259" y="9798"/>
                </a:cubicBezTo>
                <a:cubicBezTo>
                  <a:pt x="5519" y="9778"/>
                  <a:pt x="5770" y="9726"/>
                  <a:pt x="6028" y="9699"/>
                </a:cubicBezTo>
                <a:cubicBezTo>
                  <a:pt x="6243" y="9677"/>
                  <a:pt x="6480" y="9657"/>
                  <a:pt x="6697" y="9649"/>
                </a:cubicBezTo>
                <a:cubicBezTo>
                  <a:pt x="7119" y="9633"/>
                  <a:pt x="7538" y="9624"/>
                  <a:pt x="7962" y="9624"/>
                </a:cubicBezTo>
                <a:cubicBezTo>
                  <a:pt x="8326" y="9624"/>
                  <a:pt x="8693" y="9617"/>
                  <a:pt x="9054" y="9624"/>
                </a:cubicBezTo>
                <a:cubicBezTo>
                  <a:pt x="9606" y="9635"/>
                  <a:pt x="10161" y="9665"/>
                  <a:pt x="10716" y="9649"/>
                </a:cubicBezTo>
                <a:cubicBezTo>
                  <a:pt x="11174" y="9636"/>
                  <a:pt x="11624" y="9573"/>
                  <a:pt x="12080" y="9525"/>
                </a:cubicBezTo>
                <a:cubicBezTo>
                  <a:pt x="12443" y="9487"/>
                  <a:pt x="12808" y="9469"/>
                  <a:pt x="13171" y="9451"/>
                </a:cubicBezTo>
                <a:cubicBezTo>
                  <a:pt x="13542" y="9432"/>
                  <a:pt x="13916" y="9412"/>
                  <a:pt x="14288" y="9401"/>
                </a:cubicBezTo>
                <a:cubicBezTo>
                  <a:pt x="14950" y="9382"/>
                  <a:pt x="15611" y="9434"/>
                  <a:pt x="16272" y="9451"/>
                </a:cubicBezTo>
                <a:cubicBezTo>
                  <a:pt x="17392" y="9479"/>
                  <a:pt x="18507" y="9410"/>
                  <a:pt x="19621" y="9376"/>
                </a:cubicBezTo>
                <a:cubicBezTo>
                  <a:pt x="20192" y="9359"/>
                  <a:pt x="20765" y="9376"/>
                  <a:pt x="21332" y="9351"/>
                </a:cubicBezTo>
                <a:cubicBezTo>
                  <a:pt x="21365" y="9351"/>
                  <a:pt x="21398" y="9351"/>
                  <a:pt x="21431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6120" y="3894120"/>
            <a:ext cx="6207120" cy="177840"/>
          </a:xfrm>
          <a:custGeom>
            <a:avLst/>
            <a:gdLst/>
            <a:ahLst/>
            <a:rect l="l" t="t" r="r" b="b"/>
            <a:pathLst>
              <a:path w="17241" h="497">
                <a:moveTo>
                  <a:pt x="4018" y="11311"/>
                </a:moveTo>
                <a:cubicBezTo>
                  <a:pt x="4383" y="11280"/>
                  <a:pt x="4743" y="11221"/>
                  <a:pt x="5110" y="11187"/>
                </a:cubicBezTo>
                <a:cubicBezTo>
                  <a:pt x="5697" y="11133"/>
                  <a:pt x="6284" y="11118"/>
                  <a:pt x="6871" y="11088"/>
                </a:cubicBezTo>
                <a:cubicBezTo>
                  <a:pt x="7136" y="11074"/>
                  <a:pt x="7399" y="11046"/>
                  <a:pt x="7665" y="11038"/>
                </a:cubicBezTo>
                <a:cubicBezTo>
                  <a:pt x="8916" y="11000"/>
                  <a:pt x="10161" y="11000"/>
                  <a:pt x="11410" y="10939"/>
                </a:cubicBezTo>
                <a:cubicBezTo>
                  <a:pt x="11774" y="10921"/>
                  <a:pt x="12137" y="10914"/>
                  <a:pt x="12502" y="10914"/>
                </a:cubicBezTo>
                <a:cubicBezTo>
                  <a:pt x="12867" y="10914"/>
                  <a:pt x="13231" y="10914"/>
                  <a:pt x="13593" y="10914"/>
                </a:cubicBezTo>
                <a:cubicBezTo>
                  <a:pt x="13966" y="10914"/>
                  <a:pt x="14336" y="10935"/>
                  <a:pt x="14709" y="10939"/>
                </a:cubicBezTo>
                <a:cubicBezTo>
                  <a:pt x="15054" y="10942"/>
                  <a:pt x="15406" y="10928"/>
                  <a:pt x="15751" y="10914"/>
                </a:cubicBezTo>
                <a:cubicBezTo>
                  <a:pt x="16980" y="10864"/>
                  <a:pt x="18220" y="10881"/>
                  <a:pt x="19447" y="10914"/>
                </a:cubicBezTo>
                <a:cubicBezTo>
                  <a:pt x="19751" y="10922"/>
                  <a:pt x="20060" y="10903"/>
                  <a:pt x="20365" y="10889"/>
                </a:cubicBezTo>
                <a:cubicBezTo>
                  <a:pt x="20545" y="10881"/>
                  <a:pt x="20730" y="10855"/>
                  <a:pt x="20910" y="10840"/>
                </a:cubicBezTo>
                <a:cubicBezTo>
                  <a:pt x="20986" y="10834"/>
                  <a:pt x="21230" y="10815"/>
                  <a:pt x="21233" y="108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Homework: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Frequency B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27:53Z</dcterms:created>
  <dc:creator>TAMMY  COON</dc:creator>
  <dc:description/>
  <dc:language>en-US</dc:language>
  <cp:lastModifiedBy>demcgra</cp:lastModifiedBy>
  <dcterms:modified xsi:type="dcterms:W3CDTF">2012-03-06T16:23:38Z</dcterms:modified>
  <cp:revision>12</cp:revision>
  <dc:subject/>
  <dc:title>Opener</dc:title>
</cp:coreProperties>
</file>